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2880" y="698400"/>
            <a:ext cx="4638600" cy="347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DE6E978-06D7-47B5-B6EE-0F58B0DC9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you going to fit this whole thing onto one slide?  Consider ma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lide for the topology, one time to schedule the ev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an historical perspect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probably mention nam here or even on the next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who has ever used Tcl?  How many people have ever extende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cl interpreter befo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ink, give everything with the interpreter.  Then mention that, of course, you could put all of these commands together into a file.  Pass them to ns and ns will execute them sequent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consider adding another slide to this to illustrate supercla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D2EC-5304-4A5F-A76E-2B91AB82E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5DC3-CDE2-4289-9976-61A688EB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6BD2-73A2-4AED-852B-3CC60688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FB66-A2B1-474F-8D0D-0B22E187F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C05F-CE86-493A-A0F1-32A3DAA1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5D28-A683-4F74-AF43-E60896D6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DAC3-8DB4-4192-8010-0981DC61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47BF-976C-43FD-A7E6-0048251D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8F02-8B65-4779-82C2-04998CBC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C49D-5836-485D-B144-95AA9285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DDF9-E437-4924-82AD-D4A9BDB5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5D5D-E7AE-44AA-9B31-38BBDCCF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CEA2-C1B7-400E-9230-FA9A82FDD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Arial"/>
              </a:rPr>
              <a:t>ns-2 Tutorial </a:t>
            </a: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ak Ban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sal@mit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nms.lcs.mit.edu/~ban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eptember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odified from Polly Huang’s and last year’s orig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5157-56F2-4721-B9E8-096E58C75C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Arial"/>
              </a:rPr>
              <a:t>Basic ns-2</a:t>
            </a: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DAB2-3AD1-4273-AF6E-B45AA5DCA6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Arial"/>
              </a:rPr>
              <a:t>Creating Event Scheduler</a:t>
            </a: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schedu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ns [new Simulator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e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ns at &lt;time&gt; &lt;ev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event&gt;: any legitimate ns/tcl comm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schedu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ns 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18B2-8DF8-40AB-BDDA-3BCD7D50C4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Arial"/>
              </a:rPr>
              <a:t>Creating a Network</a:t>
            </a: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n0 [$ns nod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n1 [$ns nod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s &amp; Queu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ns duplex-link $n0 $n1 &lt;bandwidth&gt; &lt;delay&gt; &lt;queue_typ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queue_type&gt;: DropTail, RED, CBQ, FQ, SFQ, D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6EC1-5A00-4056-A9B6-3AE575C8E3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Arial"/>
              </a:rPr>
              <a:t>Creating a simple simulation</a:t>
            </a: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Create a top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ns [new Simulato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n0 [$ns nod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n1 [$ns nod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ns duplex-link $n0 $n1 1Mb 10ms Drop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Add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cp  [$ns create-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/TCP $n0 Agent/TCPSink $n1 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ftp [$tcp attach-app FTP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1981080"/>
            <a:ext cx="297180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# Create a sche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ns at 0.5 "$ftp star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ns at 4.5 "$ftp stop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#Run the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ns 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5105520"/>
            <a:ext cx="609480" cy="533160"/>
          </a:xfrm>
          <a:prstGeom prst="ellipse">
            <a:avLst/>
          </a:prstGeom>
          <a:solidFill>
            <a:srgbClr val="33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467480" y="5105520"/>
            <a:ext cx="609840" cy="533160"/>
          </a:xfrm>
          <a:prstGeom prst="ellipse">
            <a:avLst/>
          </a:prstGeom>
          <a:solidFill>
            <a:srgbClr val="33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4876920"/>
            <a:ext cx="616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M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21480" y="5334120"/>
            <a:ext cx="16700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248160" y="548640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4267080"/>
            <a:ext cx="609480" cy="8384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4440" y="434340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04800" y="4724280"/>
            <a:ext cx="511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467480" y="4267080"/>
            <a:ext cx="609840" cy="838440"/>
            <a:chOff x="7467480" y="4267080"/>
            <a:chExt cx="609840" cy="838440"/>
          </a:xfrm>
        </p:grpSpPr>
        <p:sp>
          <p:nvSpPr>
            <p:cNvPr id="96" name=""/>
            <p:cNvSpPr/>
            <p:nvPr/>
          </p:nvSpPr>
          <p:spPr>
            <a:xfrm>
              <a:off x="7467480" y="4267080"/>
              <a:ext cx="609840" cy="8384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42720" y="4343400"/>
              <a:ext cx="491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43080" y="4724280"/>
              <a:ext cx="511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5588-9247-41D2-8095-6485B3F836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Arial"/>
              </a:rPr>
              <a:t>ns-2 Internal</a:t>
            </a: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8398-C22F-4690-B194-9590A7FF81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Arial"/>
              </a:rPr>
              <a:t>Rou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27440" y="2286000"/>
            <a:ext cx="3644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825560" y="1830240"/>
            <a:ext cx="5635800" cy="911520"/>
            <a:chOff x="1825560" y="1830240"/>
            <a:chExt cx="5635800" cy="911520"/>
          </a:xfrm>
        </p:grpSpPr>
        <p:sp>
          <p:nvSpPr>
            <p:cNvPr id="104" name=""/>
            <p:cNvSpPr/>
            <p:nvPr/>
          </p:nvSpPr>
          <p:spPr>
            <a:xfrm>
              <a:off x="1825560" y="1830240"/>
              <a:ext cx="987480" cy="911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73880" y="1830240"/>
              <a:ext cx="987480" cy="911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36520" y="2098800"/>
              <a:ext cx="489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684480" y="2098800"/>
              <a:ext cx="489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46120" y="2222640"/>
            <a:ext cx="3338640" cy="3338280"/>
            <a:chOff x="546120" y="2222640"/>
            <a:chExt cx="3338640" cy="3338280"/>
          </a:xfrm>
        </p:grpSpPr>
        <p:sp>
          <p:nvSpPr>
            <p:cNvPr id="109" name=""/>
            <p:cNvSpPr/>
            <p:nvPr/>
          </p:nvSpPr>
          <p:spPr>
            <a:xfrm>
              <a:off x="1828800" y="3886200"/>
              <a:ext cx="306360" cy="915840"/>
            </a:xfrm>
            <a:custGeom>
              <a:avLst/>
              <a:gdLst/>
              <a:ahLst/>
              <a:rect l="l" t="t" r="r" b="b"/>
              <a:pathLst>
                <a:path w="193" h="577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90920" y="3352680"/>
              <a:ext cx="306360" cy="916200"/>
            </a:xfrm>
            <a:custGeom>
              <a:avLst/>
              <a:gdLst/>
              <a:ahLst/>
              <a:rect l="l" t="t" r="r" b="b"/>
              <a:pathLst>
                <a:path w="193" h="577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20760" y="2973240"/>
              <a:ext cx="2664000" cy="2587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66680" y="3505320"/>
              <a:ext cx="11588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ddr Classifi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52480" y="2971800"/>
              <a:ext cx="11588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ort Classifi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68480" y="4192560"/>
              <a:ext cx="301680" cy="30168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6120" y="4343400"/>
              <a:ext cx="52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84200" y="43434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139840" y="3816360"/>
              <a:ext cx="44460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92040" y="4724280"/>
              <a:ext cx="922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lassifier_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07160" y="4114800"/>
              <a:ext cx="683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mux_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6960" y="4419720"/>
              <a:ext cx="643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try_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308240" y="2222640"/>
              <a:ext cx="520560" cy="1587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32120" y="2222640"/>
              <a:ext cx="825480" cy="1282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836720" y="434340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827720" y="3962520"/>
            <a:ext cx="313200" cy="778320"/>
            <a:chOff x="1827720" y="3962520"/>
            <a:chExt cx="313200" cy="778320"/>
          </a:xfrm>
        </p:grpSpPr>
        <p:sp>
          <p:nvSpPr>
            <p:cNvPr id="125" name=""/>
            <p:cNvSpPr/>
            <p:nvPr/>
          </p:nvSpPr>
          <p:spPr>
            <a:xfrm>
              <a:off x="1827720" y="3962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27720" y="43434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194440" y="2222640"/>
            <a:ext cx="3338280" cy="3338280"/>
            <a:chOff x="5194440" y="2222640"/>
            <a:chExt cx="3338280" cy="3338280"/>
          </a:xfrm>
        </p:grpSpPr>
        <p:sp>
          <p:nvSpPr>
            <p:cNvPr id="128" name=""/>
            <p:cNvSpPr/>
            <p:nvPr/>
          </p:nvSpPr>
          <p:spPr>
            <a:xfrm>
              <a:off x="6477120" y="3886200"/>
              <a:ext cx="306360" cy="915840"/>
            </a:xfrm>
            <a:custGeom>
              <a:avLst/>
              <a:gdLst/>
              <a:ahLst/>
              <a:rect l="l" t="t" r="r" b="b"/>
              <a:pathLst>
                <a:path w="193" h="577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238880" y="3352680"/>
              <a:ext cx="306360" cy="916200"/>
            </a:xfrm>
            <a:custGeom>
              <a:avLst/>
              <a:gdLst/>
              <a:ahLst/>
              <a:rect l="l" t="t" r="r" b="b"/>
              <a:pathLst>
                <a:path w="193" h="577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69080" y="2973240"/>
              <a:ext cx="2663640" cy="2587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15000" y="3505320"/>
              <a:ext cx="11588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ddr Classifi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00800" y="2971800"/>
              <a:ext cx="11588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ort Classifi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16440" y="4192560"/>
              <a:ext cx="301680" cy="30168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94440" y="4343400"/>
              <a:ext cx="52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32520" y="43434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788160" y="3816360"/>
              <a:ext cx="44460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40360" y="4724280"/>
              <a:ext cx="922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lassifier_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55480" y="4114800"/>
              <a:ext cx="683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mux_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55280" y="4419720"/>
              <a:ext cx="643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try_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5955840" y="2222640"/>
              <a:ext cx="520920" cy="1587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480440" y="2222640"/>
              <a:ext cx="825480" cy="1282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76040" y="3962520"/>
            <a:ext cx="313200" cy="778320"/>
            <a:chOff x="6476040" y="3962520"/>
            <a:chExt cx="313200" cy="778320"/>
          </a:xfrm>
        </p:grpSpPr>
        <p:sp>
          <p:nvSpPr>
            <p:cNvPr id="143" name=""/>
            <p:cNvSpPr/>
            <p:nvPr/>
          </p:nvSpPr>
          <p:spPr>
            <a:xfrm>
              <a:off x="6476040" y="3962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76040" y="43434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489720" y="434340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63960" y="4116240"/>
            <a:ext cx="1292400" cy="45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38480" y="4191120"/>
            <a:ext cx="1130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k n0-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139840" y="4349520"/>
            <a:ext cx="1816200" cy="21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33520" y="4343400"/>
            <a:ext cx="6707160" cy="1674720"/>
            <a:chOff x="533520" y="4343400"/>
            <a:chExt cx="6707160" cy="1674720"/>
          </a:xfrm>
        </p:grpSpPr>
        <p:sp>
          <p:nvSpPr>
            <p:cNvPr id="150" name=""/>
            <p:cNvSpPr/>
            <p:nvPr/>
          </p:nvSpPr>
          <p:spPr>
            <a:xfrm>
              <a:off x="5257800" y="4572000"/>
              <a:ext cx="1982880" cy="1220760"/>
            </a:xfrm>
            <a:custGeom>
              <a:avLst/>
              <a:gdLst/>
              <a:ahLst/>
              <a:rect l="l" t="t" r="r" b="b"/>
              <a:pathLst>
                <a:path w="1249" h="769">
                  <a:moveTo>
                    <a:pt x="960" y="0"/>
                  </a:moveTo>
                  <a:lnTo>
                    <a:pt x="1248" y="0"/>
                  </a:lnTo>
                  <a:lnTo>
                    <a:pt x="1248" y="768"/>
                  </a:lnTo>
                  <a:lnTo>
                    <a:pt x="0" y="7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63960" y="5564160"/>
              <a:ext cx="1292400" cy="45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38480" y="5638680"/>
              <a:ext cx="1130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ink n1-n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520" y="4343400"/>
              <a:ext cx="3506760" cy="1449360"/>
            </a:xfrm>
            <a:custGeom>
              <a:avLst/>
              <a:gdLst/>
              <a:ahLst/>
              <a:rect l="l" t="t" r="r" b="b"/>
              <a:pathLst>
                <a:path w="2209" h="913">
                  <a:moveTo>
                    <a:pt x="2208" y="912"/>
                  </a:move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2AED-F906-40DF-93FE-2960F46AAA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1823040" y="3962520"/>
            <a:ext cx="313200" cy="778320"/>
            <a:chOff x="1823040" y="3962520"/>
            <a:chExt cx="313200" cy="778320"/>
          </a:xfrm>
        </p:grpSpPr>
        <p:sp>
          <p:nvSpPr>
            <p:cNvPr id="155" name=""/>
            <p:cNvSpPr/>
            <p:nvPr/>
          </p:nvSpPr>
          <p:spPr>
            <a:xfrm>
              <a:off x="1823040" y="3962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33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23040" y="43434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Arial"/>
              </a:rPr>
              <a:t>Trans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27440" y="2286000"/>
            <a:ext cx="3644640" cy="1440"/>
          </a:xfrm>
          <a:prstGeom prst="line">
            <a:avLst/>
          </a:prstGeom>
          <a:ln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25560" y="1830240"/>
            <a:ext cx="987480" cy="911520"/>
          </a:xfrm>
          <a:prstGeom prst="ellipse">
            <a:avLst/>
          </a:prstGeom>
          <a:noFill/>
          <a:ln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73880" y="1830240"/>
            <a:ext cx="987480" cy="911520"/>
          </a:xfrm>
          <a:prstGeom prst="ellipse">
            <a:avLst/>
          </a:prstGeom>
          <a:noFill/>
          <a:ln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36520" y="209880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Times New Roman"/>
              </a:rPr>
              <a:t>n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84480" y="209880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Times New Roman"/>
              </a:rPr>
              <a:t>n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2000" y="3505320"/>
            <a:ext cx="1158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33"/>
                </a:solidFill>
                <a:latin typeface="Times New Roman"/>
              </a:rPr>
              <a:t>Addr Class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47800" y="2971800"/>
            <a:ext cx="1158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33"/>
                </a:solidFill>
                <a:latin typeface="Times New Roman"/>
              </a:rPr>
              <a:t>Port Class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87360" y="4724280"/>
            <a:ext cx="922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33"/>
                </a:solidFill>
                <a:latin typeface="Times New Roman"/>
              </a:rPr>
              <a:t>classifier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02480" y="4114800"/>
            <a:ext cx="683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33"/>
                </a:solidFill>
                <a:latin typeface="Times New Roman"/>
              </a:rPr>
              <a:t>dmux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2280" y="4419720"/>
            <a:ext cx="64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33"/>
                </a:solidFill>
                <a:latin typeface="Times New Roman"/>
              </a:rPr>
              <a:t>entry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41440" y="2222640"/>
            <a:ext cx="3338280" cy="3338280"/>
            <a:chOff x="541440" y="2222640"/>
            <a:chExt cx="3338280" cy="3338280"/>
          </a:xfrm>
        </p:grpSpPr>
        <p:sp>
          <p:nvSpPr>
            <p:cNvPr id="169" name=""/>
            <p:cNvSpPr/>
            <p:nvPr/>
          </p:nvSpPr>
          <p:spPr>
            <a:xfrm>
              <a:off x="1824120" y="3886200"/>
              <a:ext cx="306360" cy="915840"/>
            </a:xfrm>
            <a:custGeom>
              <a:avLst/>
              <a:gdLst/>
              <a:ahLst/>
              <a:rect l="l" t="t" r="r" b="b"/>
              <a:pathLst>
                <a:path w="193" h="577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</a:path>
              </a:pathLst>
            </a:custGeom>
            <a:noFill/>
            <a:ln cap="rnd" w="1260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85880" y="3352680"/>
              <a:ext cx="306720" cy="916200"/>
            </a:xfrm>
            <a:custGeom>
              <a:avLst/>
              <a:gdLst/>
              <a:ahLst/>
              <a:rect l="l" t="t" r="r" b="b"/>
              <a:pathLst>
                <a:path w="193" h="577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</a:path>
              </a:pathLst>
            </a:custGeom>
            <a:noFill/>
            <a:ln cap="rnd" w="1260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16080" y="2973240"/>
              <a:ext cx="2663640" cy="2587680"/>
            </a:xfrm>
            <a:prstGeom prst="ellipse">
              <a:avLst/>
            </a:prstGeom>
            <a:noFill/>
            <a:ln w="1260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63800" y="4192560"/>
              <a:ext cx="301320" cy="30168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1440" y="4343400"/>
              <a:ext cx="520560" cy="0"/>
            </a:xfrm>
            <a:prstGeom prst="line">
              <a:avLst/>
            </a:prstGeom>
            <a:ln w="1260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379520" y="4343400"/>
              <a:ext cx="444600" cy="0"/>
            </a:xfrm>
            <a:prstGeom prst="line">
              <a:avLst/>
            </a:prstGeom>
            <a:ln w="1260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2135160" y="3816360"/>
              <a:ext cx="444600" cy="216000"/>
            </a:xfrm>
            <a:prstGeom prst="line">
              <a:avLst/>
            </a:prstGeom>
            <a:ln w="1260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1302840" y="2222640"/>
              <a:ext cx="520920" cy="1587240"/>
            </a:xfrm>
            <a:prstGeom prst="line">
              <a:avLst/>
            </a:prstGeom>
            <a:ln w="12600">
              <a:solidFill>
                <a:srgbClr val="66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27440" y="2222640"/>
              <a:ext cx="825480" cy="1282680"/>
            </a:xfrm>
            <a:prstGeom prst="line">
              <a:avLst/>
            </a:prstGeom>
            <a:ln w="12600">
              <a:solidFill>
                <a:srgbClr val="66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836720" y="4343400"/>
            <a:ext cx="291960" cy="0"/>
          </a:xfrm>
          <a:prstGeom prst="line">
            <a:avLst/>
          </a:prstGeom>
          <a:ln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74720" y="3546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01960" y="3506760"/>
            <a:ext cx="1440000" cy="315360"/>
            <a:chOff x="2901960" y="3506760"/>
            <a:chExt cx="1440000" cy="315360"/>
          </a:xfrm>
        </p:grpSpPr>
        <p:sp>
          <p:nvSpPr>
            <p:cNvPr id="181" name=""/>
            <p:cNvSpPr/>
            <p:nvPr/>
          </p:nvSpPr>
          <p:spPr>
            <a:xfrm>
              <a:off x="3125880" y="3506760"/>
              <a:ext cx="1216080" cy="30168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58360" y="3516480"/>
              <a:ext cx="999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gent/TC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901960" y="3664080"/>
              <a:ext cx="2160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2969280" y="3809880"/>
            <a:ext cx="73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gents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3505320"/>
            <a:ext cx="1158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33"/>
                </a:solidFill>
                <a:latin typeface="Times New Roman"/>
              </a:rPr>
              <a:t>Addr Class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00800" y="2971800"/>
            <a:ext cx="1158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33"/>
                </a:solidFill>
                <a:latin typeface="Times New Roman"/>
              </a:rPr>
              <a:t>Port Class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0360" y="4724280"/>
            <a:ext cx="922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33"/>
                </a:solidFill>
                <a:latin typeface="Times New Roman"/>
              </a:rPr>
              <a:t>classifier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5480" y="4114800"/>
            <a:ext cx="683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33"/>
                </a:solidFill>
                <a:latin typeface="Times New Roman"/>
              </a:rPr>
              <a:t>dmux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55280" y="4419720"/>
            <a:ext cx="64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33"/>
                </a:solidFill>
                <a:latin typeface="Times New Roman"/>
              </a:rPr>
              <a:t>entry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5194440" y="2222640"/>
            <a:ext cx="3338280" cy="3338280"/>
            <a:chOff x="5194440" y="2222640"/>
            <a:chExt cx="3338280" cy="3338280"/>
          </a:xfrm>
        </p:grpSpPr>
        <p:sp>
          <p:nvSpPr>
            <p:cNvPr id="191" name=""/>
            <p:cNvSpPr/>
            <p:nvPr/>
          </p:nvSpPr>
          <p:spPr>
            <a:xfrm>
              <a:off x="6477120" y="3886200"/>
              <a:ext cx="306360" cy="915840"/>
            </a:xfrm>
            <a:custGeom>
              <a:avLst/>
              <a:gdLst/>
              <a:ahLst/>
              <a:rect l="l" t="t" r="r" b="b"/>
              <a:pathLst>
                <a:path w="193" h="577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</a:path>
              </a:pathLst>
            </a:custGeom>
            <a:noFill/>
            <a:ln cap="rnd" w="1260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238880" y="3352680"/>
              <a:ext cx="306360" cy="916200"/>
            </a:xfrm>
            <a:custGeom>
              <a:avLst/>
              <a:gdLst/>
              <a:ahLst/>
              <a:rect l="l" t="t" r="r" b="b"/>
              <a:pathLst>
                <a:path w="193" h="577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</a:path>
              </a:pathLst>
            </a:custGeom>
            <a:noFill/>
            <a:ln cap="rnd" w="1260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69080" y="2973240"/>
              <a:ext cx="2663640" cy="2587680"/>
            </a:xfrm>
            <a:prstGeom prst="ellipse">
              <a:avLst/>
            </a:prstGeom>
            <a:noFill/>
            <a:ln w="1260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716440" y="4192560"/>
              <a:ext cx="301680" cy="30168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94440" y="4343400"/>
              <a:ext cx="520560" cy="0"/>
            </a:xfrm>
            <a:prstGeom prst="line">
              <a:avLst/>
            </a:prstGeom>
            <a:ln w="1260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32520" y="4343400"/>
              <a:ext cx="444600" cy="0"/>
            </a:xfrm>
            <a:prstGeom prst="line">
              <a:avLst/>
            </a:prstGeom>
            <a:ln w="1260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788160" y="3816360"/>
              <a:ext cx="444600" cy="216000"/>
            </a:xfrm>
            <a:prstGeom prst="line">
              <a:avLst/>
            </a:prstGeom>
            <a:ln w="1260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5955840" y="2222640"/>
              <a:ext cx="520920" cy="1587240"/>
            </a:xfrm>
            <a:prstGeom prst="line">
              <a:avLst/>
            </a:prstGeom>
            <a:ln w="12600">
              <a:solidFill>
                <a:srgbClr val="66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480440" y="2222640"/>
              <a:ext cx="825480" cy="1282680"/>
            </a:xfrm>
            <a:prstGeom prst="line">
              <a:avLst/>
            </a:prstGeom>
            <a:ln w="12600">
              <a:solidFill>
                <a:srgbClr val="66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476040" y="3962520"/>
            <a:ext cx="313200" cy="778320"/>
            <a:chOff x="6476040" y="3962520"/>
            <a:chExt cx="313200" cy="778320"/>
          </a:xfrm>
        </p:grpSpPr>
        <p:sp>
          <p:nvSpPr>
            <p:cNvPr id="201" name=""/>
            <p:cNvSpPr/>
            <p:nvPr/>
          </p:nvSpPr>
          <p:spPr>
            <a:xfrm>
              <a:off x="6476040" y="3962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76040" y="43434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33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6489720" y="4343400"/>
            <a:ext cx="291960" cy="0"/>
          </a:xfrm>
          <a:prstGeom prst="line">
            <a:avLst/>
          </a:prstGeom>
          <a:ln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63960" y="4116240"/>
            <a:ext cx="1292400" cy="454320"/>
          </a:xfrm>
          <a:prstGeom prst="rect">
            <a:avLst/>
          </a:prstGeom>
          <a:noFill/>
          <a:ln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4191120"/>
            <a:ext cx="1130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33"/>
                </a:solidFill>
                <a:latin typeface="Times New Roman"/>
              </a:rPr>
              <a:t>Link n0-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139840" y="4349520"/>
            <a:ext cx="1816200" cy="215640"/>
          </a:xfrm>
          <a:prstGeom prst="line">
            <a:avLst/>
          </a:prstGeom>
          <a:ln w="1260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38480" y="5638680"/>
            <a:ext cx="1130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33"/>
                </a:solidFill>
                <a:latin typeface="Times New Roman"/>
              </a:rPr>
              <a:t>Link n1-n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533520" y="4343400"/>
            <a:ext cx="6707160" cy="1674720"/>
            <a:chOff x="533520" y="4343400"/>
            <a:chExt cx="6707160" cy="1674720"/>
          </a:xfrm>
        </p:grpSpPr>
        <p:sp>
          <p:nvSpPr>
            <p:cNvPr id="209" name=""/>
            <p:cNvSpPr/>
            <p:nvPr/>
          </p:nvSpPr>
          <p:spPr>
            <a:xfrm>
              <a:off x="5257800" y="4572000"/>
              <a:ext cx="1982880" cy="1220760"/>
            </a:xfrm>
            <a:custGeom>
              <a:avLst/>
              <a:gdLst/>
              <a:ahLst/>
              <a:rect l="l" t="t" r="r" b="b"/>
              <a:pathLst>
                <a:path w="1249" h="769">
                  <a:moveTo>
                    <a:pt x="960" y="0"/>
                  </a:moveTo>
                  <a:lnTo>
                    <a:pt x="1248" y="0"/>
                  </a:lnTo>
                  <a:lnTo>
                    <a:pt x="1248" y="768"/>
                  </a:lnTo>
                  <a:lnTo>
                    <a:pt x="0" y="768"/>
                  </a:lnTo>
                </a:path>
              </a:pathLst>
            </a:custGeom>
            <a:noFill/>
            <a:ln cap="rnd" w="12600">
              <a:solidFill>
                <a:srgbClr val="6666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63960" y="5564160"/>
              <a:ext cx="1292400" cy="453960"/>
            </a:xfrm>
            <a:prstGeom prst="rect">
              <a:avLst/>
            </a:prstGeom>
            <a:noFill/>
            <a:ln w="1260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3520" y="4343400"/>
              <a:ext cx="3506760" cy="1449360"/>
            </a:xfrm>
            <a:custGeom>
              <a:avLst/>
              <a:gdLst/>
              <a:ahLst/>
              <a:rect l="l" t="t" r="r" b="b"/>
              <a:pathLst>
                <a:path w="2209" h="913">
                  <a:moveTo>
                    <a:pt x="2208" y="912"/>
                  </a:move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7222680" y="3546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7550280" y="3505320"/>
            <a:ext cx="1545840" cy="610200"/>
            <a:chOff x="7550280" y="3505320"/>
            <a:chExt cx="1545840" cy="610200"/>
          </a:xfrm>
        </p:grpSpPr>
        <p:sp>
          <p:nvSpPr>
            <p:cNvPr id="214" name=""/>
            <p:cNvSpPr/>
            <p:nvPr/>
          </p:nvSpPr>
          <p:spPr>
            <a:xfrm>
              <a:off x="7773840" y="3506760"/>
              <a:ext cx="1216080" cy="30168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68080" y="3505320"/>
              <a:ext cx="1328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gent/TCPS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7550280" y="3664080"/>
              <a:ext cx="21564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17600" y="3809880"/>
              <a:ext cx="733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gents_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638520" y="3200400"/>
            <a:ext cx="5397840" cy="316800"/>
            <a:chOff x="3638520" y="3200400"/>
            <a:chExt cx="5397840" cy="316800"/>
          </a:xfrm>
        </p:grpSpPr>
        <p:sp>
          <p:nvSpPr>
            <p:cNvPr id="219" name=""/>
            <p:cNvSpPr/>
            <p:nvPr/>
          </p:nvSpPr>
          <p:spPr>
            <a:xfrm>
              <a:off x="3638520" y="3211560"/>
              <a:ext cx="81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st_=1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226360" y="3200400"/>
              <a:ext cx="81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st_=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925560" y="2570040"/>
            <a:ext cx="7319880" cy="1776600"/>
            <a:chOff x="925560" y="2570040"/>
            <a:chExt cx="7319880" cy="1776600"/>
          </a:xfrm>
        </p:grpSpPr>
        <p:sp>
          <p:nvSpPr>
            <p:cNvPr id="222" name=""/>
            <p:cNvSpPr/>
            <p:nvPr/>
          </p:nvSpPr>
          <p:spPr>
            <a:xfrm>
              <a:off x="925560" y="2620800"/>
              <a:ext cx="2582640" cy="1725840"/>
            </a:xfrm>
            <a:custGeom>
              <a:avLst/>
              <a:gdLst/>
              <a:ahLst/>
              <a:rect l="l" t="t" r="r" b="b"/>
              <a:pathLst>
                <a:path w="1627" h="1087">
                  <a:moveTo>
                    <a:pt x="1626" y="556"/>
                  </a:moveTo>
                  <a:lnTo>
                    <a:pt x="1499" y="425"/>
                  </a:lnTo>
                  <a:lnTo>
                    <a:pt x="1432" y="363"/>
                  </a:lnTo>
                  <a:lnTo>
                    <a:pt x="1361" y="307"/>
                  </a:lnTo>
                  <a:lnTo>
                    <a:pt x="1290" y="250"/>
                  </a:lnTo>
                  <a:lnTo>
                    <a:pt x="1212" y="201"/>
                  </a:lnTo>
                  <a:lnTo>
                    <a:pt x="1131" y="162"/>
                  </a:lnTo>
                  <a:lnTo>
                    <a:pt x="1043" y="127"/>
                  </a:lnTo>
                  <a:lnTo>
                    <a:pt x="993" y="109"/>
                  </a:lnTo>
                  <a:lnTo>
                    <a:pt x="944" y="96"/>
                  </a:lnTo>
                  <a:lnTo>
                    <a:pt x="887" y="79"/>
                  </a:lnTo>
                  <a:lnTo>
                    <a:pt x="827" y="61"/>
                  </a:lnTo>
                  <a:lnTo>
                    <a:pt x="704" y="31"/>
                  </a:lnTo>
                  <a:lnTo>
                    <a:pt x="580" y="13"/>
                  </a:lnTo>
                  <a:lnTo>
                    <a:pt x="456" y="0"/>
                  </a:lnTo>
                  <a:lnTo>
                    <a:pt x="396" y="0"/>
                  </a:lnTo>
                  <a:lnTo>
                    <a:pt x="343" y="4"/>
                  </a:lnTo>
                  <a:lnTo>
                    <a:pt x="290" y="17"/>
                  </a:lnTo>
                  <a:lnTo>
                    <a:pt x="244" y="31"/>
                  </a:lnTo>
                  <a:lnTo>
                    <a:pt x="202" y="53"/>
                  </a:lnTo>
                  <a:lnTo>
                    <a:pt x="166" y="79"/>
                  </a:lnTo>
                  <a:lnTo>
                    <a:pt x="134" y="109"/>
                  </a:lnTo>
                  <a:lnTo>
                    <a:pt x="110" y="149"/>
                  </a:lnTo>
                  <a:lnTo>
                    <a:pt x="85" y="193"/>
                  </a:lnTo>
                  <a:lnTo>
                    <a:pt x="67" y="245"/>
                  </a:lnTo>
                  <a:lnTo>
                    <a:pt x="50" y="298"/>
                  </a:lnTo>
                  <a:lnTo>
                    <a:pt x="36" y="355"/>
                  </a:lnTo>
                  <a:lnTo>
                    <a:pt x="18" y="482"/>
                  </a:lnTo>
                  <a:lnTo>
                    <a:pt x="7" y="622"/>
                  </a:lnTo>
                  <a:lnTo>
                    <a:pt x="0" y="771"/>
                  </a:lnTo>
                  <a:lnTo>
                    <a:pt x="0" y="928"/>
                  </a:lnTo>
                  <a:lnTo>
                    <a:pt x="0" y="10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57760" y="2570040"/>
              <a:ext cx="2587680" cy="1725840"/>
            </a:xfrm>
            <a:custGeom>
              <a:avLst/>
              <a:gdLst/>
              <a:ahLst/>
              <a:rect l="l" t="t" r="r" b="b"/>
              <a:pathLst>
                <a:path w="1630" h="1087">
                  <a:moveTo>
                    <a:pt x="1629" y="558"/>
                  </a:moveTo>
                  <a:lnTo>
                    <a:pt x="1496" y="428"/>
                  </a:lnTo>
                  <a:lnTo>
                    <a:pt x="1430" y="363"/>
                  </a:lnTo>
                  <a:lnTo>
                    <a:pt x="1363" y="303"/>
                  </a:lnTo>
                  <a:lnTo>
                    <a:pt x="1288" y="251"/>
                  </a:lnTo>
                  <a:lnTo>
                    <a:pt x="1214" y="199"/>
                  </a:lnTo>
                  <a:lnTo>
                    <a:pt x="1139" y="160"/>
                  </a:lnTo>
                  <a:lnTo>
                    <a:pt x="1047" y="125"/>
                  </a:lnTo>
                  <a:lnTo>
                    <a:pt x="948" y="95"/>
                  </a:lnTo>
                  <a:lnTo>
                    <a:pt x="831" y="60"/>
                  </a:lnTo>
                  <a:lnTo>
                    <a:pt x="707" y="30"/>
                  </a:lnTo>
                  <a:lnTo>
                    <a:pt x="582" y="13"/>
                  </a:lnTo>
                  <a:lnTo>
                    <a:pt x="457" y="0"/>
                  </a:lnTo>
                  <a:lnTo>
                    <a:pt x="399" y="0"/>
                  </a:lnTo>
                  <a:lnTo>
                    <a:pt x="341" y="4"/>
                  </a:lnTo>
                  <a:lnTo>
                    <a:pt x="291" y="17"/>
                  </a:lnTo>
                  <a:lnTo>
                    <a:pt x="241" y="30"/>
                  </a:lnTo>
                  <a:lnTo>
                    <a:pt x="200" y="52"/>
                  </a:lnTo>
                  <a:lnTo>
                    <a:pt x="167" y="78"/>
                  </a:lnTo>
                  <a:lnTo>
                    <a:pt x="133" y="112"/>
                  </a:lnTo>
                  <a:lnTo>
                    <a:pt x="108" y="151"/>
                  </a:lnTo>
                  <a:lnTo>
                    <a:pt x="84" y="194"/>
                  </a:lnTo>
                  <a:lnTo>
                    <a:pt x="67" y="242"/>
                  </a:lnTo>
                  <a:lnTo>
                    <a:pt x="50" y="298"/>
                  </a:lnTo>
                  <a:lnTo>
                    <a:pt x="34" y="355"/>
                  </a:lnTo>
                  <a:lnTo>
                    <a:pt x="17" y="484"/>
                  </a:lnTo>
                  <a:lnTo>
                    <a:pt x="9" y="623"/>
                  </a:lnTo>
                  <a:lnTo>
                    <a:pt x="0" y="770"/>
                  </a:lnTo>
                  <a:lnTo>
                    <a:pt x="0" y="926"/>
                  </a:lnTo>
                  <a:lnTo>
                    <a:pt x="0" y="10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4FAC-052B-4F6F-9706-8F73275586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823040" y="3962520"/>
            <a:ext cx="313200" cy="778320"/>
            <a:chOff x="1823040" y="3962520"/>
            <a:chExt cx="313200" cy="778320"/>
          </a:xfrm>
        </p:grpSpPr>
        <p:sp>
          <p:nvSpPr>
            <p:cNvPr id="226" name=""/>
            <p:cNvSpPr/>
            <p:nvPr/>
          </p:nvSpPr>
          <p:spPr>
            <a:xfrm>
              <a:off x="1823040" y="3962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33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823040" y="43434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827440" y="2286000"/>
            <a:ext cx="3644640" cy="1440"/>
          </a:xfrm>
          <a:prstGeom prst="line">
            <a:avLst/>
          </a:prstGeom>
          <a:ln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25560" y="1830240"/>
            <a:ext cx="987480" cy="911520"/>
          </a:xfrm>
          <a:prstGeom prst="ellipse">
            <a:avLst/>
          </a:prstGeom>
          <a:noFill/>
          <a:ln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73880" y="1830240"/>
            <a:ext cx="987480" cy="911520"/>
          </a:xfrm>
          <a:prstGeom prst="ellipse">
            <a:avLst/>
          </a:prstGeom>
          <a:noFill/>
          <a:ln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36520" y="209880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Times New Roman"/>
              </a:rPr>
              <a:t>n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684480" y="209880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Times New Roman"/>
              </a:rPr>
              <a:t>n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62000" y="3505320"/>
            <a:ext cx="1158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33"/>
                </a:solidFill>
                <a:latin typeface="Times New Roman"/>
              </a:rPr>
              <a:t>Addr Class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47800" y="2971800"/>
            <a:ext cx="1158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33"/>
                </a:solidFill>
                <a:latin typeface="Times New Roman"/>
              </a:rPr>
              <a:t>Port Class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87360" y="4724280"/>
            <a:ext cx="922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33"/>
                </a:solidFill>
                <a:latin typeface="Times New Roman"/>
              </a:rPr>
              <a:t>classifier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02480" y="4114800"/>
            <a:ext cx="683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33"/>
                </a:solidFill>
                <a:latin typeface="Times New Roman"/>
              </a:rPr>
              <a:t>dmux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2280" y="4419720"/>
            <a:ext cx="64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33"/>
                </a:solidFill>
                <a:latin typeface="Times New Roman"/>
              </a:rPr>
              <a:t>entry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41440" y="2222640"/>
            <a:ext cx="3338280" cy="3338280"/>
            <a:chOff x="541440" y="2222640"/>
            <a:chExt cx="3338280" cy="3338280"/>
          </a:xfrm>
        </p:grpSpPr>
        <p:sp>
          <p:nvSpPr>
            <p:cNvPr id="239" name=""/>
            <p:cNvSpPr/>
            <p:nvPr/>
          </p:nvSpPr>
          <p:spPr>
            <a:xfrm>
              <a:off x="1824120" y="3886200"/>
              <a:ext cx="306360" cy="915840"/>
            </a:xfrm>
            <a:custGeom>
              <a:avLst/>
              <a:gdLst/>
              <a:ahLst/>
              <a:rect l="l" t="t" r="r" b="b"/>
              <a:pathLst>
                <a:path w="193" h="577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</a:path>
              </a:pathLst>
            </a:custGeom>
            <a:noFill/>
            <a:ln cap="rnd" w="1260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85880" y="3352680"/>
              <a:ext cx="306720" cy="916200"/>
            </a:xfrm>
            <a:custGeom>
              <a:avLst/>
              <a:gdLst/>
              <a:ahLst/>
              <a:rect l="l" t="t" r="r" b="b"/>
              <a:pathLst>
                <a:path w="193" h="577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</a:path>
              </a:pathLst>
            </a:custGeom>
            <a:noFill/>
            <a:ln cap="rnd" w="1260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16080" y="2973240"/>
              <a:ext cx="2663640" cy="2587680"/>
            </a:xfrm>
            <a:prstGeom prst="ellipse">
              <a:avLst/>
            </a:prstGeom>
            <a:noFill/>
            <a:ln w="1260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063800" y="4192560"/>
              <a:ext cx="301320" cy="30168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1440" y="4343400"/>
              <a:ext cx="520560" cy="0"/>
            </a:xfrm>
            <a:prstGeom prst="line">
              <a:avLst/>
            </a:prstGeom>
            <a:ln w="1260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79520" y="4343400"/>
              <a:ext cx="444600" cy="0"/>
            </a:xfrm>
            <a:prstGeom prst="line">
              <a:avLst/>
            </a:prstGeom>
            <a:ln w="1260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2135160" y="3816360"/>
              <a:ext cx="444600" cy="216000"/>
            </a:xfrm>
            <a:prstGeom prst="line">
              <a:avLst/>
            </a:prstGeom>
            <a:ln w="1260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1302840" y="2222640"/>
              <a:ext cx="520920" cy="1587240"/>
            </a:xfrm>
            <a:prstGeom prst="line">
              <a:avLst/>
            </a:prstGeom>
            <a:ln w="12600">
              <a:solidFill>
                <a:srgbClr val="66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27440" y="2222640"/>
              <a:ext cx="825480" cy="1282680"/>
            </a:xfrm>
            <a:prstGeom prst="line">
              <a:avLst/>
            </a:prstGeom>
            <a:ln w="12600">
              <a:solidFill>
                <a:srgbClr val="66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836720" y="4343400"/>
            <a:ext cx="291960" cy="0"/>
          </a:xfrm>
          <a:prstGeom prst="line">
            <a:avLst/>
          </a:prstGeom>
          <a:ln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74720" y="3546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25880" y="3506760"/>
            <a:ext cx="1216080" cy="3016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58360" y="3516480"/>
            <a:ext cx="99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33"/>
                </a:solidFill>
                <a:latin typeface="Times New Roman"/>
              </a:rPr>
              <a:t>Agent/TC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901960" y="3664080"/>
            <a:ext cx="216000" cy="63360"/>
          </a:xfrm>
          <a:prstGeom prst="line">
            <a:avLst/>
          </a:prstGeom>
          <a:ln w="1260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69280" y="3809880"/>
            <a:ext cx="73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33"/>
                </a:solidFill>
                <a:latin typeface="Times New Roman"/>
              </a:rPr>
              <a:t>agents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3505320"/>
            <a:ext cx="1158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33"/>
                </a:solidFill>
                <a:latin typeface="Times New Roman"/>
              </a:rPr>
              <a:t>Addr Class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00800" y="2971800"/>
            <a:ext cx="1158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33"/>
                </a:solidFill>
                <a:latin typeface="Times New Roman"/>
              </a:rPr>
              <a:t>Port Class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40360" y="4724280"/>
            <a:ext cx="922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33"/>
                </a:solidFill>
                <a:latin typeface="Times New Roman"/>
              </a:rPr>
              <a:t>classifier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5480" y="4114800"/>
            <a:ext cx="683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33"/>
                </a:solidFill>
                <a:latin typeface="Times New Roman"/>
              </a:rPr>
              <a:t>dmux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255280" y="4419720"/>
            <a:ext cx="64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33"/>
                </a:solidFill>
                <a:latin typeface="Times New Roman"/>
              </a:rPr>
              <a:t>entry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194440" y="2222640"/>
            <a:ext cx="3338280" cy="3338280"/>
            <a:chOff x="5194440" y="2222640"/>
            <a:chExt cx="3338280" cy="3338280"/>
          </a:xfrm>
        </p:grpSpPr>
        <p:sp>
          <p:nvSpPr>
            <p:cNvPr id="260" name=""/>
            <p:cNvSpPr/>
            <p:nvPr/>
          </p:nvSpPr>
          <p:spPr>
            <a:xfrm>
              <a:off x="6477120" y="3886200"/>
              <a:ext cx="306360" cy="915840"/>
            </a:xfrm>
            <a:custGeom>
              <a:avLst/>
              <a:gdLst/>
              <a:ahLst/>
              <a:rect l="l" t="t" r="r" b="b"/>
              <a:pathLst>
                <a:path w="193" h="577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</a:path>
              </a:pathLst>
            </a:custGeom>
            <a:noFill/>
            <a:ln cap="rnd" w="1260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8880" y="3352680"/>
              <a:ext cx="306360" cy="916200"/>
            </a:xfrm>
            <a:custGeom>
              <a:avLst/>
              <a:gdLst/>
              <a:ahLst/>
              <a:rect l="l" t="t" r="r" b="b"/>
              <a:pathLst>
                <a:path w="193" h="577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</a:path>
              </a:pathLst>
            </a:custGeom>
            <a:noFill/>
            <a:ln cap="rnd" w="1260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869080" y="2973240"/>
              <a:ext cx="2663640" cy="2587680"/>
            </a:xfrm>
            <a:prstGeom prst="ellipse">
              <a:avLst/>
            </a:prstGeom>
            <a:noFill/>
            <a:ln w="1260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16440" y="4192560"/>
              <a:ext cx="301680" cy="30168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94440" y="4343400"/>
              <a:ext cx="520560" cy="0"/>
            </a:xfrm>
            <a:prstGeom prst="line">
              <a:avLst/>
            </a:prstGeom>
            <a:ln w="1260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32520" y="4343400"/>
              <a:ext cx="444600" cy="0"/>
            </a:xfrm>
            <a:prstGeom prst="line">
              <a:avLst/>
            </a:prstGeom>
            <a:ln w="1260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788160" y="3816360"/>
              <a:ext cx="444600" cy="216000"/>
            </a:xfrm>
            <a:prstGeom prst="line">
              <a:avLst/>
            </a:prstGeom>
            <a:ln w="1260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5955840" y="2222640"/>
              <a:ext cx="520920" cy="1587240"/>
            </a:xfrm>
            <a:prstGeom prst="line">
              <a:avLst/>
            </a:prstGeom>
            <a:ln w="12600">
              <a:solidFill>
                <a:srgbClr val="66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80440" y="2222640"/>
              <a:ext cx="825480" cy="1282680"/>
            </a:xfrm>
            <a:prstGeom prst="line">
              <a:avLst/>
            </a:prstGeom>
            <a:ln w="12600">
              <a:solidFill>
                <a:srgbClr val="66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6476040" y="3962520"/>
            <a:ext cx="313200" cy="778320"/>
            <a:chOff x="6476040" y="3962520"/>
            <a:chExt cx="313200" cy="778320"/>
          </a:xfrm>
        </p:grpSpPr>
        <p:sp>
          <p:nvSpPr>
            <p:cNvPr id="270" name=""/>
            <p:cNvSpPr/>
            <p:nvPr/>
          </p:nvSpPr>
          <p:spPr>
            <a:xfrm>
              <a:off x="6476040" y="3962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76040" y="43434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33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489720" y="4343400"/>
            <a:ext cx="291960" cy="0"/>
          </a:xfrm>
          <a:prstGeom prst="line">
            <a:avLst/>
          </a:prstGeom>
          <a:ln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63960" y="4116240"/>
            <a:ext cx="1292400" cy="454320"/>
          </a:xfrm>
          <a:prstGeom prst="rect">
            <a:avLst/>
          </a:prstGeom>
          <a:noFill/>
          <a:ln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38480" y="4191120"/>
            <a:ext cx="1130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33"/>
                </a:solidFill>
                <a:latin typeface="Times New Roman"/>
              </a:rPr>
              <a:t>Link n0-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139840" y="4349520"/>
            <a:ext cx="1816200" cy="215640"/>
          </a:xfrm>
          <a:prstGeom prst="line">
            <a:avLst/>
          </a:prstGeom>
          <a:ln w="1260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38480" y="5638680"/>
            <a:ext cx="1130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33"/>
                </a:solidFill>
                <a:latin typeface="Times New Roman"/>
              </a:rPr>
              <a:t>Link n1-n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33520" y="4343400"/>
            <a:ext cx="6707160" cy="1674720"/>
            <a:chOff x="533520" y="4343400"/>
            <a:chExt cx="6707160" cy="1674720"/>
          </a:xfrm>
        </p:grpSpPr>
        <p:sp>
          <p:nvSpPr>
            <p:cNvPr id="278" name=""/>
            <p:cNvSpPr/>
            <p:nvPr/>
          </p:nvSpPr>
          <p:spPr>
            <a:xfrm>
              <a:off x="5257800" y="4572000"/>
              <a:ext cx="1982880" cy="1220760"/>
            </a:xfrm>
            <a:custGeom>
              <a:avLst/>
              <a:gdLst/>
              <a:ahLst/>
              <a:rect l="l" t="t" r="r" b="b"/>
              <a:pathLst>
                <a:path w="1249" h="769">
                  <a:moveTo>
                    <a:pt x="960" y="0"/>
                  </a:moveTo>
                  <a:lnTo>
                    <a:pt x="1248" y="0"/>
                  </a:lnTo>
                  <a:lnTo>
                    <a:pt x="1248" y="768"/>
                  </a:lnTo>
                  <a:lnTo>
                    <a:pt x="0" y="768"/>
                  </a:lnTo>
                </a:path>
              </a:pathLst>
            </a:custGeom>
            <a:noFill/>
            <a:ln cap="rnd" w="12600">
              <a:solidFill>
                <a:srgbClr val="6666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63960" y="5564160"/>
              <a:ext cx="1292400" cy="453960"/>
            </a:xfrm>
            <a:prstGeom prst="rect">
              <a:avLst/>
            </a:prstGeom>
            <a:noFill/>
            <a:ln w="1260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33520" y="4343400"/>
              <a:ext cx="3506760" cy="1449360"/>
            </a:xfrm>
            <a:custGeom>
              <a:avLst/>
              <a:gdLst/>
              <a:ahLst/>
              <a:rect l="l" t="t" r="r" b="b"/>
              <a:pathLst>
                <a:path w="2209" h="913">
                  <a:moveTo>
                    <a:pt x="2208" y="912"/>
                  </a:move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7222680" y="3546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773840" y="3506760"/>
            <a:ext cx="1216080" cy="3016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768080" y="3505320"/>
            <a:ext cx="1328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33"/>
                </a:solidFill>
                <a:latin typeface="Times New Roman"/>
              </a:rPr>
              <a:t>Agent/TCPS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7550280" y="3664080"/>
            <a:ext cx="215640" cy="63360"/>
          </a:xfrm>
          <a:prstGeom prst="line">
            <a:avLst/>
          </a:prstGeom>
          <a:ln w="1260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17600" y="3809880"/>
            <a:ext cx="73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33"/>
                </a:solidFill>
                <a:latin typeface="Times New Roman"/>
              </a:rPr>
              <a:t>agents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3638520" y="3200400"/>
            <a:ext cx="5397840" cy="316800"/>
            <a:chOff x="3638520" y="3200400"/>
            <a:chExt cx="5397840" cy="316800"/>
          </a:xfrm>
        </p:grpSpPr>
        <p:sp>
          <p:nvSpPr>
            <p:cNvPr id="287" name=""/>
            <p:cNvSpPr/>
            <p:nvPr/>
          </p:nvSpPr>
          <p:spPr>
            <a:xfrm>
              <a:off x="3638520" y="3211560"/>
              <a:ext cx="81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33"/>
                  </a:solidFill>
                  <a:latin typeface="Times New Roman"/>
                </a:rPr>
                <a:t>dst_=1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226360" y="3200400"/>
              <a:ext cx="81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33"/>
                  </a:solidFill>
                  <a:latin typeface="Times New Roman"/>
                </a:rPr>
                <a:t>dst_=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925560" y="2570040"/>
            <a:ext cx="7319880" cy="1776600"/>
            <a:chOff x="925560" y="2570040"/>
            <a:chExt cx="7319880" cy="1776600"/>
          </a:xfrm>
        </p:grpSpPr>
        <p:sp>
          <p:nvSpPr>
            <p:cNvPr id="290" name=""/>
            <p:cNvSpPr/>
            <p:nvPr/>
          </p:nvSpPr>
          <p:spPr>
            <a:xfrm>
              <a:off x="925560" y="2620800"/>
              <a:ext cx="2582640" cy="1725840"/>
            </a:xfrm>
            <a:custGeom>
              <a:avLst/>
              <a:gdLst/>
              <a:ahLst/>
              <a:rect l="l" t="t" r="r" b="b"/>
              <a:pathLst>
                <a:path w="1627" h="1087">
                  <a:moveTo>
                    <a:pt x="1626" y="556"/>
                  </a:moveTo>
                  <a:lnTo>
                    <a:pt x="1499" y="425"/>
                  </a:lnTo>
                  <a:lnTo>
                    <a:pt x="1432" y="363"/>
                  </a:lnTo>
                  <a:lnTo>
                    <a:pt x="1361" y="307"/>
                  </a:lnTo>
                  <a:lnTo>
                    <a:pt x="1290" y="250"/>
                  </a:lnTo>
                  <a:lnTo>
                    <a:pt x="1212" y="201"/>
                  </a:lnTo>
                  <a:lnTo>
                    <a:pt x="1131" y="162"/>
                  </a:lnTo>
                  <a:lnTo>
                    <a:pt x="1043" y="127"/>
                  </a:lnTo>
                  <a:lnTo>
                    <a:pt x="993" y="109"/>
                  </a:lnTo>
                  <a:lnTo>
                    <a:pt x="944" y="96"/>
                  </a:lnTo>
                  <a:lnTo>
                    <a:pt x="887" y="79"/>
                  </a:lnTo>
                  <a:lnTo>
                    <a:pt x="827" y="61"/>
                  </a:lnTo>
                  <a:lnTo>
                    <a:pt x="704" y="31"/>
                  </a:lnTo>
                  <a:lnTo>
                    <a:pt x="580" y="13"/>
                  </a:lnTo>
                  <a:lnTo>
                    <a:pt x="456" y="0"/>
                  </a:lnTo>
                  <a:lnTo>
                    <a:pt x="396" y="0"/>
                  </a:lnTo>
                  <a:lnTo>
                    <a:pt x="343" y="4"/>
                  </a:lnTo>
                  <a:lnTo>
                    <a:pt x="290" y="17"/>
                  </a:lnTo>
                  <a:lnTo>
                    <a:pt x="244" y="31"/>
                  </a:lnTo>
                  <a:lnTo>
                    <a:pt x="202" y="53"/>
                  </a:lnTo>
                  <a:lnTo>
                    <a:pt x="166" y="79"/>
                  </a:lnTo>
                  <a:lnTo>
                    <a:pt x="134" y="109"/>
                  </a:lnTo>
                  <a:lnTo>
                    <a:pt x="110" y="149"/>
                  </a:lnTo>
                  <a:lnTo>
                    <a:pt x="85" y="193"/>
                  </a:lnTo>
                  <a:lnTo>
                    <a:pt x="67" y="245"/>
                  </a:lnTo>
                  <a:lnTo>
                    <a:pt x="50" y="298"/>
                  </a:lnTo>
                  <a:lnTo>
                    <a:pt x="36" y="355"/>
                  </a:lnTo>
                  <a:lnTo>
                    <a:pt x="18" y="482"/>
                  </a:lnTo>
                  <a:lnTo>
                    <a:pt x="7" y="622"/>
                  </a:lnTo>
                  <a:lnTo>
                    <a:pt x="0" y="771"/>
                  </a:lnTo>
                  <a:lnTo>
                    <a:pt x="0" y="928"/>
                  </a:lnTo>
                  <a:lnTo>
                    <a:pt x="0" y="1086"/>
                  </a:lnTo>
                </a:path>
              </a:pathLst>
            </a:custGeom>
            <a:noFill/>
            <a:ln cap="rnd" w="12600">
              <a:solidFill>
                <a:srgbClr val="6666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657760" y="2570040"/>
              <a:ext cx="2587680" cy="1725840"/>
            </a:xfrm>
            <a:custGeom>
              <a:avLst/>
              <a:gdLst/>
              <a:ahLst/>
              <a:rect l="l" t="t" r="r" b="b"/>
              <a:pathLst>
                <a:path w="1630" h="1087">
                  <a:moveTo>
                    <a:pt x="1629" y="558"/>
                  </a:moveTo>
                  <a:lnTo>
                    <a:pt x="1496" y="428"/>
                  </a:lnTo>
                  <a:lnTo>
                    <a:pt x="1430" y="363"/>
                  </a:lnTo>
                  <a:lnTo>
                    <a:pt x="1363" y="303"/>
                  </a:lnTo>
                  <a:lnTo>
                    <a:pt x="1288" y="251"/>
                  </a:lnTo>
                  <a:lnTo>
                    <a:pt x="1214" y="199"/>
                  </a:lnTo>
                  <a:lnTo>
                    <a:pt x="1139" y="160"/>
                  </a:lnTo>
                  <a:lnTo>
                    <a:pt x="1047" y="125"/>
                  </a:lnTo>
                  <a:lnTo>
                    <a:pt x="948" y="95"/>
                  </a:lnTo>
                  <a:lnTo>
                    <a:pt x="831" y="60"/>
                  </a:lnTo>
                  <a:lnTo>
                    <a:pt x="707" y="30"/>
                  </a:lnTo>
                  <a:lnTo>
                    <a:pt x="582" y="13"/>
                  </a:lnTo>
                  <a:lnTo>
                    <a:pt x="457" y="0"/>
                  </a:lnTo>
                  <a:lnTo>
                    <a:pt x="399" y="0"/>
                  </a:lnTo>
                  <a:lnTo>
                    <a:pt x="341" y="4"/>
                  </a:lnTo>
                  <a:lnTo>
                    <a:pt x="291" y="17"/>
                  </a:lnTo>
                  <a:lnTo>
                    <a:pt x="241" y="30"/>
                  </a:lnTo>
                  <a:lnTo>
                    <a:pt x="200" y="52"/>
                  </a:lnTo>
                  <a:lnTo>
                    <a:pt x="167" y="78"/>
                  </a:lnTo>
                  <a:lnTo>
                    <a:pt x="133" y="112"/>
                  </a:lnTo>
                  <a:lnTo>
                    <a:pt x="108" y="151"/>
                  </a:lnTo>
                  <a:lnTo>
                    <a:pt x="84" y="194"/>
                  </a:lnTo>
                  <a:lnTo>
                    <a:pt x="67" y="242"/>
                  </a:lnTo>
                  <a:lnTo>
                    <a:pt x="50" y="298"/>
                  </a:lnTo>
                  <a:lnTo>
                    <a:pt x="34" y="355"/>
                  </a:lnTo>
                  <a:lnTo>
                    <a:pt x="17" y="484"/>
                  </a:lnTo>
                  <a:lnTo>
                    <a:pt x="9" y="623"/>
                  </a:lnTo>
                  <a:lnTo>
                    <a:pt x="0" y="770"/>
                  </a:lnTo>
                  <a:lnTo>
                    <a:pt x="0" y="926"/>
                  </a:lnTo>
                  <a:lnTo>
                    <a:pt x="0" y="1086"/>
                  </a:lnTo>
                </a:path>
              </a:pathLst>
            </a:custGeom>
            <a:noFill/>
            <a:ln cap="rnd" w="12600">
              <a:solidFill>
                <a:srgbClr val="6666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957120" y="2962440"/>
            <a:ext cx="1388880" cy="618840"/>
            <a:chOff x="3957120" y="2962440"/>
            <a:chExt cx="1388880" cy="618840"/>
          </a:xfrm>
        </p:grpSpPr>
        <p:sp>
          <p:nvSpPr>
            <p:cNvPr id="293" name=""/>
            <p:cNvSpPr/>
            <p:nvPr/>
          </p:nvSpPr>
          <p:spPr>
            <a:xfrm>
              <a:off x="3979800" y="2962440"/>
              <a:ext cx="1352520" cy="30132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957120" y="2971800"/>
              <a:ext cx="1388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pplication/F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4279680" y="3289320"/>
              <a:ext cx="368280" cy="2919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69EE-4529-492D-BD88-F4ADFB1CAB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Packet 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823040" y="3962520"/>
            <a:ext cx="313200" cy="778320"/>
            <a:chOff x="1823040" y="3962520"/>
            <a:chExt cx="313200" cy="778320"/>
          </a:xfrm>
        </p:grpSpPr>
        <p:sp>
          <p:nvSpPr>
            <p:cNvPr id="298" name=""/>
            <p:cNvSpPr/>
            <p:nvPr/>
          </p:nvSpPr>
          <p:spPr>
            <a:xfrm>
              <a:off x="1823040" y="3962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33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823040" y="43434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2827440" y="2286000"/>
            <a:ext cx="3644640" cy="1440"/>
          </a:xfrm>
          <a:prstGeom prst="line">
            <a:avLst/>
          </a:prstGeom>
          <a:ln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825560" y="1830240"/>
            <a:ext cx="987480" cy="911520"/>
          </a:xfrm>
          <a:prstGeom prst="ellipse">
            <a:avLst/>
          </a:prstGeom>
          <a:noFill/>
          <a:ln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73880" y="1830240"/>
            <a:ext cx="987480" cy="911520"/>
          </a:xfrm>
          <a:prstGeom prst="ellipse">
            <a:avLst/>
          </a:prstGeom>
          <a:noFill/>
          <a:ln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036520" y="209880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Times New Roman"/>
              </a:rPr>
              <a:t>n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684480" y="209880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Times New Roman"/>
              </a:rPr>
              <a:t>n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62000" y="3505320"/>
            <a:ext cx="1158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33"/>
                </a:solidFill>
                <a:latin typeface="Times New Roman"/>
              </a:rPr>
              <a:t>Addr Class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747800" y="2971800"/>
            <a:ext cx="1158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33"/>
                </a:solidFill>
                <a:latin typeface="Times New Roman"/>
              </a:rPr>
              <a:t>Port Class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2280" y="4419720"/>
            <a:ext cx="64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33"/>
                </a:solidFill>
                <a:latin typeface="Times New Roman"/>
              </a:rPr>
              <a:t>entry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541440" y="2222640"/>
            <a:ext cx="3338280" cy="3338280"/>
            <a:chOff x="541440" y="2222640"/>
            <a:chExt cx="3338280" cy="3338280"/>
          </a:xfrm>
        </p:grpSpPr>
        <p:sp>
          <p:nvSpPr>
            <p:cNvPr id="309" name=""/>
            <p:cNvSpPr/>
            <p:nvPr/>
          </p:nvSpPr>
          <p:spPr>
            <a:xfrm>
              <a:off x="1824120" y="3886200"/>
              <a:ext cx="306360" cy="915840"/>
            </a:xfrm>
            <a:custGeom>
              <a:avLst/>
              <a:gdLst/>
              <a:ahLst/>
              <a:rect l="l" t="t" r="r" b="b"/>
              <a:pathLst>
                <a:path w="193" h="577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</a:path>
              </a:pathLst>
            </a:custGeom>
            <a:noFill/>
            <a:ln cap="rnd" w="1260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85880" y="3352680"/>
              <a:ext cx="306720" cy="916200"/>
            </a:xfrm>
            <a:custGeom>
              <a:avLst/>
              <a:gdLst/>
              <a:ahLst/>
              <a:rect l="l" t="t" r="r" b="b"/>
              <a:pathLst>
                <a:path w="193" h="577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</a:path>
              </a:pathLst>
            </a:custGeom>
            <a:noFill/>
            <a:ln cap="rnd" w="1260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216080" y="2973240"/>
              <a:ext cx="2663640" cy="2587680"/>
            </a:xfrm>
            <a:prstGeom prst="ellipse">
              <a:avLst/>
            </a:prstGeom>
            <a:noFill/>
            <a:ln w="1260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063800" y="4192560"/>
              <a:ext cx="301320" cy="30168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41440" y="4343400"/>
              <a:ext cx="520560" cy="0"/>
            </a:xfrm>
            <a:prstGeom prst="line">
              <a:avLst/>
            </a:prstGeom>
            <a:ln w="1260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379520" y="4343400"/>
              <a:ext cx="444600" cy="0"/>
            </a:xfrm>
            <a:prstGeom prst="line">
              <a:avLst/>
            </a:prstGeom>
            <a:ln w="1260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2135160" y="3816360"/>
              <a:ext cx="444600" cy="216000"/>
            </a:xfrm>
            <a:prstGeom prst="line">
              <a:avLst/>
            </a:prstGeom>
            <a:ln w="1260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1302840" y="2222640"/>
              <a:ext cx="520920" cy="1587240"/>
            </a:xfrm>
            <a:prstGeom prst="line">
              <a:avLst/>
            </a:prstGeom>
            <a:ln w="12600">
              <a:solidFill>
                <a:srgbClr val="66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827440" y="2222640"/>
              <a:ext cx="825480" cy="1282680"/>
            </a:xfrm>
            <a:prstGeom prst="line">
              <a:avLst/>
            </a:prstGeom>
            <a:ln w="12600">
              <a:solidFill>
                <a:srgbClr val="66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836720" y="4343400"/>
            <a:ext cx="291960" cy="0"/>
          </a:xfrm>
          <a:prstGeom prst="line">
            <a:avLst/>
          </a:prstGeom>
          <a:ln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74720" y="3546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5880" y="3506760"/>
            <a:ext cx="1216080" cy="3016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58360" y="3516480"/>
            <a:ext cx="99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33"/>
                </a:solidFill>
                <a:latin typeface="Times New Roman"/>
              </a:rPr>
              <a:t>Agent/TC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2901960" y="3664080"/>
            <a:ext cx="216000" cy="63360"/>
          </a:xfrm>
          <a:prstGeom prst="line">
            <a:avLst/>
          </a:prstGeom>
          <a:ln w="1260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15000" y="3505320"/>
            <a:ext cx="1158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33"/>
                </a:solidFill>
                <a:latin typeface="Times New Roman"/>
              </a:rPr>
              <a:t>Addr Class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400800" y="2971800"/>
            <a:ext cx="1158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33"/>
                </a:solidFill>
                <a:latin typeface="Times New Roman"/>
              </a:rPr>
              <a:t>Port Class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5280" y="4419720"/>
            <a:ext cx="64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33"/>
                </a:solidFill>
                <a:latin typeface="Times New Roman"/>
              </a:rPr>
              <a:t>entry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5194440" y="2222640"/>
            <a:ext cx="3338280" cy="3338280"/>
            <a:chOff x="5194440" y="2222640"/>
            <a:chExt cx="3338280" cy="3338280"/>
          </a:xfrm>
        </p:grpSpPr>
        <p:sp>
          <p:nvSpPr>
            <p:cNvPr id="327" name=""/>
            <p:cNvSpPr/>
            <p:nvPr/>
          </p:nvSpPr>
          <p:spPr>
            <a:xfrm>
              <a:off x="6477120" y="3886200"/>
              <a:ext cx="306360" cy="915840"/>
            </a:xfrm>
            <a:custGeom>
              <a:avLst/>
              <a:gdLst/>
              <a:ahLst/>
              <a:rect l="l" t="t" r="r" b="b"/>
              <a:pathLst>
                <a:path w="193" h="577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</a:path>
              </a:pathLst>
            </a:custGeom>
            <a:noFill/>
            <a:ln cap="rnd" w="1260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238880" y="3352680"/>
              <a:ext cx="306360" cy="916200"/>
            </a:xfrm>
            <a:custGeom>
              <a:avLst/>
              <a:gdLst/>
              <a:ahLst/>
              <a:rect l="l" t="t" r="r" b="b"/>
              <a:pathLst>
                <a:path w="193" h="577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</a:path>
              </a:pathLst>
            </a:custGeom>
            <a:noFill/>
            <a:ln cap="rnd" w="1260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869080" y="2973240"/>
              <a:ext cx="2663640" cy="2587680"/>
            </a:xfrm>
            <a:prstGeom prst="ellipse">
              <a:avLst/>
            </a:prstGeom>
            <a:noFill/>
            <a:ln w="1260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716440" y="4192560"/>
              <a:ext cx="301680" cy="30168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94440" y="4343400"/>
              <a:ext cx="520560" cy="0"/>
            </a:xfrm>
            <a:prstGeom prst="line">
              <a:avLst/>
            </a:prstGeom>
            <a:ln w="1260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32520" y="4343400"/>
              <a:ext cx="444600" cy="0"/>
            </a:xfrm>
            <a:prstGeom prst="line">
              <a:avLst/>
            </a:prstGeom>
            <a:ln w="1260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6788160" y="3816360"/>
              <a:ext cx="444600" cy="216000"/>
            </a:xfrm>
            <a:prstGeom prst="line">
              <a:avLst/>
            </a:prstGeom>
            <a:ln w="1260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55840" y="2222640"/>
              <a:ext cx="520920" cy="1587240"/>
            </a:xfrm>
            <a:prstGeom prst="line">
              <a:avLst/>
            </a:prstGeom>
            <a:ln w="12600">
              <a:solidFill>
                <a:srgbClr val="66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480440" y="2222640"/>
              <a:ext cx="825480" cy="1282680"/>
            </a:xfrm>
            <a:prstGeom prst="line">
              <a:avLst/>
            </a:prstGeom>
            <a:ln w="12600">
              <a:solidFill>
                <a:srgbClr val="66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476040" y="3962520"/>
            <a:ext cx="313200" cy="778320"/>
            <a:chOff x="6476040" y="3962520"/>
            <a:chExt cx="313200" cy="778320"/>
          </a:xfrm>
        </p:grpSpPr>
        <p:sp>
          <p:nvSpPr>
            <p:cNvPr id="337" name=""/>
            <p:cNvSpPr/>
            <p:nvPr/>
          </p:nvSpPr>
          <p:spPr>
            <a:xfrm>
              <a:off x="6476040" y="3962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476040" y="43434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33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6489720" y="4343400"/>
            <a:ext cx="291960" cy="0"/>
          </a:xfrm>
          <a:prstGeom prst="line">
            <a:avLst/>
          </a:prstGeom>
          <a:ln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3960" y="4116240"/>
            <a:ext cx="1292400" cy="454320"/>
          </a:xfrm>
          <a:prstGeom prst="rect">
            <a:avLst/>
          </a:prstGeom>
          <a:noFill/>
          <a:ln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38480" y="4191120"/>
            <a:ext cx="1130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33"/>
                </a:solidFill>
                <a:latin typeface="Times New Roman"/>
              </a:rPr>
              <a:t>Link n0-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139840" y="4349520"/>
            <a:ext cx="1816200" cy="215640"/>
          </a:xfrm>
          <a:prstGeom prst="line">
            <a:avLst/>
          </a:prstGeom>
          <a:ln w="1260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5638680"/>
            <a:ext cx="1130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33"/>
                </a:solidFill>
                <a:latin typeface="Times New Roman"/>
              </a:rPr>
              <a:t>Link n1-n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533520" y="4343400"/>
            <a:ext cx="6707160" cy="1674720"/>
            <a:chOff x="533520" y="4343400"/>
            <a:chExt cx="6707160" cy="1674720"/>
          </a:xfrm>
        </p:grpSpPr>
        <p:sp>
          <p:nvSpPr>
            <p:cNvPr id="345" name=""/>
            <p:cNvSpPr/>
            <p:nvPr/>
          </p:nvSpPr>
          <p:spPr>
            <a:xfrm>
              <a:off x="5257800" y="4572000"/>
              <a:ext cx="1982880" cy="1220760"/>
            </a:xfrm>
            <a:custGeom>
              <a:avLst/>
              <a:gdLst/>
              <a:ahLst/>
              <a:rect l="l" t="t" r="r" b="b"/>
              <a:pathLst>
                <a:path w="1249" h="769">
                  <a:moveTo>
                    <a:pt x="960" y="0"/>
                  </a:moveTo>
                  <a:lnTo>
                    <a:pt x="1248" y="0"/>
                  </a:lnTo>
                  <a:lnTo>
                    <a:pt x="1248" y="768"/>
                  </a:lnTo>
                  <a:lnTo>
                    <a:pt x="0" y="768"/>
                  </a:lnTo>
                </a:path>
              </a:pathLst>
            </a:custGeom>
            <a:noFill/>
            <a:ln cap="rnd" w="12600">
              <a:solidFill>
                <a:srgbClr val="6666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963960" y="5564160"/>
              <a:ext cx="1292400" cy="453960"/>
            </a:xfrm>
            <a:prstGeom prst="rect">
              <a:avLst/>
            </a:prstGeom>
            <a:noFill/>
            <a:ln w="1260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33520" y="4343400"/>
              <a:ext cx="3506760" cy="1449360"/>
            </a:xfrm>
            <a:custGeom>
              <a:avLst/>
              <a:gdLst/>
              <a:ahLst/>
              <a:rect l="l" t="t" r="r" b="b"/>
              <a:pathLst>
                <a:path w="2209" h="913">
                  <a:moveTo>
                    <a:pt x="2208" y="912"/>
                  </a:move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7222680" y="3546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773840" y="3506760"/>
            <a:ext cx="1216080" cy="3016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768080" y="3505320"/>
            <a:ext cx="1328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33"/>
                </a:solidFill>
                <a:latin typeface="Times New Roman"/>
              </a:rPr>
              <a:t>Agent/TCPS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7550280" y="3664080"/>
            <a:ext cx="215640" cy="63360"/>
          </a:xfrm>
          <a:prstGeom prst="line">
            <a:avLst/>
          </a:prstGeom>
          <a:ln w="1260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3638520" y="3200400"/>
            <a:ext cx="5397840" cy="316800"/>
            <a:chOff x="3638520" y="3200400"/>
            <a:chExt cx="5397840" cy="316800"/>
          </a:xfrm>
        </p:grpSpPr>
        <p:sp>
          <p:nvSpPr>
            <p:cNvPr id="353" name=""/>
            <p:cNvSpPr/>
            <p:nvPr/>
          </p:nvSpPr>
          <p:spPr>
            <a:xfrm>
              <a:off x="3638520" y="3211560"/>
              <a:ext cx="81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33"/>
                  </a:solidFill>
                  <a:latin typeface="Times New Roman"/>
                </a:rPr>
                <a:t>dst_=1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226360" y="3200400"/>
              <a:ext cx="81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33"/>
                  </a:solidFill>
                  <a:latin typeface="Times New Roman"/>
                </a:rPr>
                <a:t>dst_=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925560" y="2570040"/>
            <a:ext cx="7319880" cy="1776600"/>
            <a:chOff x="925560" y="2570040"/>
            <a:chExt cx="7319880" cy="1776600"/>
          </a:xfrm>
        </p:grpSpPr>
        <p:sp>
          <p:nvSpPr>
            <p:cNvPr id="356" name=""/>
            <p:cNvSpPr/>
            <p:nvPr/>
          </p:nvSpPr>
          <p:spPr>
            <a:xfrm>
              <a:off x="925560" y="2620800"/>
              <a:ext cx="2582640" cy="1725840"/>
            </a:xfrm>
            <a:custGeom>
              <a:avLst/>
              <a:gdLst/>
              <a:ahLst/>
              <a:rect l="l" t="t" r="r" b="b"/>
              <a:pathLst>
                <a:path w="1627" h="1087">
                  <a:moveTo>
                    <a:pt x="1626" y="556"/>
                  </a:moveTo>
                  <a:lnTo>
                    <a:pt x="1499" y="425"/>
                  </a:lnTo>
                  <a:lnTo>
                    <a:pt x="1432" y="363"/>
                  </a:lnTo>
                  <a:lnTo>
                    <a:pt x="1361" y="307"/>
                  </a:lnTo>
                  <a:lnTo>
                    <a:pt x="1290" y="250"/>
                  </a:lnTo>
                  <a:lnTo>
                    <a:pt x="1212" y="201"/>
                  </a:lnTo>
                  <a:lnTo>
                    <a:pt x="1131" y="162"/>
                  </a:lnTo>
                  <a:lnTo>
                    <a:pt x="1043" y="127"/>
                  </a:lnTo>
                  <a:lnTo>
                    <a:pt x="993" y="109"/>
                  </a:lnTo>
                  <a:lnTo>
                    <a:pt x="944" y="96"/>
                  </a:lnTo>
                  <a:lnTo>
                    <a:pt x="887" y="79"/>
                  </a:lnTo>
                  <a:lnTo>
                    <a:pt x="827" y="61"/>
                  </a:lnTo>
                  <a:lnTo>
                    <a:pt x="704" y="31"/>
                  </a:lnTo>
                  <a:lnTo>
                    <a:pt x="580" y="13"/>
                  </a:lnTo>
                  <a:lnTo>
                    <a:pt x="456" y="0"/>
                  </a:lnTo>
                  <a:lnTo>
                    <a:pt x="396" y="0"/>
                  </a:lnTo>
                  <a:lnTo>
                    <a:pt x="343" y="4"/>
                  </a:lnTo>
                  <a:lnTo>
                    <a:pt x="290" y="17"/>
                  </a:lnTo>
                  <a:lnTo>
                    <a:pt x="244" y="31"/>
                  </a:lnTo>
                  <a:lnTo>
                    <a:pt x="202" y="53"/>
                  </a:lnTo>
                  <a:lnTo>
                    <a:pt x="166" y="79"/>
                  </a:lnTo>
                  <a:lnTo>
                    <a:pt x="134" y="109"/>
                  </a:lnTo>
                  <a:lnTo>
                    <a:pt x="110" y="149"/>
                  </a:lnTo>
                  <a:lnTo>
                    <a:pt x="85" y="193"/>
                  </a:lnTo>
                  <a:lnTo>
                    <a:pt x="67" y="245"/>
                  </a:lnTo>
                  <a:lnTo>
                    <a:pt x="50" y="298"/>
                  </a:lnTo>
                  <a:lnTo>
                    <a:pt x="36" y="355"/>
                  </a:lnTo>
                  <a:lnTo>
                    <a:pt x="18" y="482"/>
                  </a:lnTo>
                  <a:lnTo>
                    <a:pt x="7" y="622"/>
                  </a:lnTo>
                  <a:lnTo>
                    <a:pt x="0" y="771"/>
                  </a:lnTo>
                  <a:lnTo>
                    <a:pt x="0" y="928"/>
                  </a:lnTo>
                  <a:lnTo>
                    <a:pt x="0" y="1086"/>
                  </a:lnTo>
                </a:path>
              </a:pathLst>
            </a:custGeom>
            <a:noFill/>
            <a:ln cap="rnd" w="12600">
              <a:solidFill>
                <a:srgbClr val="6666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657760" y="2570040"/>
              <a:ext cx="2587680" cy="1725840"/>
            </a:xfrm>
            <a:custGeom>
              <a:avLst/>
              <a:gdLst/>
              <a:ahLst/>
              <a:rect l="l" t="t" r="r" b="b"/>
              <a:pathLst>
                <a:path w="1630" h="1087">
                  <a:moveTo>
                    <a:pt x="1629" y="558"/>
                  </a:moveTo>
                  <a:lnTo>
                    <a:pt x="1496" y="428"/>
                  </a:lnTo>
                  <a:lnTo>
                    <a:pt x="1430" y="363"/>
                  </a:lnTo>
                  <a:lnTo>
                    <a:pt x="1363" y="303"/>
                  </a:lnTo>
                  <a:lnTo>
                    <a:pt x="1288" y="251"/>
                  </a:lnTo>
                  <a:lnTo>
                    <a:pt x="1214" y="199"/>
                  </a:lnTo>
                  <a:lnTo>
                    <a:pt x="1139" y="160"/>
                  </a:lnTo>
                  <a:lnTo>
                    <a:pt x="1047" y="125"/>
                  </a:lnTo>
                  <a:lnTo>
                    <a:pt x="948" y="95"/>
                  </a:lnTo>
                  <a:lnTo>
                    <a:pt x="831" y="60"/>
                  </a:lnTo>
                  <a:lnTo>
                    <a:pt x="707" y="30"/>
                  </a:lnTo>
                  <a:lnTo>
                    <a:pt x="582" y="13"/>
                  </a:lnTo>
                  <a:lnTo>
                    <a:pt x="457" y="0"/>
                  </a:lnTo>
                  <a:lnTo>
                    <a:pt x="399" y="0"/>
                  </a:lnTo>
                  <a:lnTo>
                    <a:pt x="341" y="4"/>
                  </a:lnTo>
                  <a:lnTo>
                    <a:pt x="291" y="17"/>
                  </a:lnTo>
                  <a:lnTo>
                    <a:pt x="241" y="30"/>
                  </a:lnTo>
                  <a:lnTo>
                    <a:pt x="200" y="52"/>
                  </a:lnTo>
                  <a:lnTo>
                    <a:pt x="167" y="78"/>
                  </a:lnTo>
                  <a:lnTo>
                    <a:pt x="133" y="112"/>
                  </a:lnTo>
                  <a:lnTo>
                    <a:pt x="108" y="151"/>
                  </a:lnTo>
                  <a:lnTo>
                    <a:pt x="84" y="194"/>
                  </a:lnTo>
                  <a:lnTo>
                    <a:pt x="67" y="242"/>
                  </a:lnTo>
                  <a:lnTo>
                    <a:pt x="50" y="298"/>
                  </a:lnTo>
                  <a:lnTo>
                    <a:pt x="34" y="355"/>
                  </a:lnTo>
                  <a:lnTo>
                    <a:pt x="17" y="484"/>
                  </a:lnTo>
                  <a:lnTo>
                    <a:pt x="9" y="623"/>
                  </a:lnTo>
                  <a:lnTo>
                    <a:pt x="0" y="770"/>
                  </a:lnTo>
                  <a:lnTo>
                    <a:pt x="0" y="926"/>
                  </a:lnTo>
                  <a:lnTo>
                    <a:pt x="0" y="1086"/>
                  </a:lnTo>
                </a:path>
              </a:pathLst>
            </a:custGeom>
            <a:noFill/>
            <a:ln cap="rnd" w="12600">
              <a:solidFill>
                <a:srgbClr val="6666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3979800" y="2962440"/>
            <a:ext cx="1352520" cy="30132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57120" y="2971800"/>
            <a:ext cx="1388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plication/F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279680" y="3289320"/>
            <a:ext cx="368280" cy="291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201840" y="3354480"/>
            <a:ext cx="301680" cy="14904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44640" y="2897280"/>
            <a:ext cx="301680" cy="14904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135160" y="2668680"/>
            <a:ext cx="301680" cy="14904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449360" y="2592360"/>
            <a:ext cx="301680" cy="14940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15840" y="2897280"/>
            <a:ext cx="301680" cy="14904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3560" y="3430440"/>
            <a:ext cx="301680" cy="14940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7240" y="3963960"/>
            <a:ext cx="301680" cy="14940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9360" y="4116240"/>
            <a:ext cx="301680" cy="14940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11480" y="4344840"/>
            <a:ext cx="301680" cy="14940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7280" y="4268880"/>
            <a:ext cx="301680" cy="14904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83080" y="4192560"/>
            <a:ext cx="301680" cy="14940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97480" y="4040280"/>
            <a:ext cx="301680" cy="14904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83280" y="4116240"/>
            <a:ext cx="301680" cy="14940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97680" y="4116240"/>
            <a:ext cx="301680" cy="14940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59440" y="3659040"/>
            <a:ext cx="301680" cy="14940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850160" y="3354480"/>
            <a:ext cx="301680" cy="14904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231040" y="3125880"/>
            <a:ext cx="73080" cy="2253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773840" y="2897280"/>
            <a:ext cx="73080" cy="2253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16640" y="2668680"/>
            <a:ext cx="73080" cy="2253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783480" y="2516040"/>
            <a:ext cx="73080" cy="2257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97680" y="2516040"/>
            <a:ext cx="73080" cy="2257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40480" y="2897280"/>
            <a:ext cx="73080" cy="2253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326280" y="4040280"/>
            <a:ext cx="73080" cy="2253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640480" y="3963960"/>
            <a:ext cx="73080" cy="2253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64160" y="3506760"/>
            <a:ext cx="73080" cy="2253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012080" y="5564160"/>
            <a:ext cx="73080" cy="2253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164360" y="4954680"/>
            <a:ext cx="73080" cy="2253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012080" y="4344840"/>
            <a:ext cx="73080" cy="2257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554880" y="5564160"/>
            <a:ext cx="73080" cy="2253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21360" y="5564160"/>
            <a:ext cx="73080" cy="2253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564160" y="5564160"/>
            <a:ext cx="73080" cy="2253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73440" y="5564160"/>
            <a:ext cx="73080" cy="2253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583080" y="5564160"/>
            <a:ext cx="73080" cy="2253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25880" y="5564160"/>
            <a:ext cx="73080" cy="2253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668680" y="5564160"/>
            <a:ext cx="73080" cy="2253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11480" y="5564160"/>
            <a:ext cx="73080" cy="2253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754280" y="5564160"/>
            <a:ext cx="73080" cy="2253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7080" y="5564160"/>
            <a:ext cx="73080" cy="2253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9880" y="5564160"/>
            <a:ext cx="73080" cy="2253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2680" y="5564160"/>
            <a:ext cx="73080" cy="2253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2680" y="4040280"/>
            <a:ext cx="73080" cy="2253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82680" y="4802040"/>
            <a:ext cx="73080" cy="2257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77960" y="4040280"/>
            <a:ext cx="73080" cy="2253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15840" y="4040280"/>
            <a:ext cx="73080" cy="2253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440080" y="3583080"/>
            <a:ext cx="73080" cy="2253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5880" y="3354480"/>
            <a:ext cx="73080" cy="2253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3201840" y="3125880"/>
            <a:ext cx="301680" cy="377640"/>
            <a:chOff x="3201840" y="3125880"/>
            <a:chExt cx="301680" cy="377640"/>
          </a:xfrm>
        </p:grpSpPr>
        <p:sp>
          <p:nvSpPr>
            <p:cNvPr id="408" name=""/>
            <p:cNvSpPr/>
            <p:nvPr/>
          </p:nvSpPr>
          <p:spPr>
            <a:xfrm>
              <a:off x="3201840" y="3125880"/>
              <a:ext cx="301680" cy="14904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201840" y="3354480"/>
              <a:ext cx="301680" cy="14904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CF64-C065-4DB6-B11A-47E7012D50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Arial"/>
              </a:rPr>
              <a:t>Extending ns-2 Simulator</a:t>
            </a: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8229-439E-4B2C-B33B-DD9E299EA6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Arial"/>
              </a:rPr>
              <a:t>Why ns?</a:t>
            </a: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biquity of Tcl, C, C++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sourc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e event sim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, UDP, FTP, HTTP, DS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d and wireless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olog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 visualization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in research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14CF-0058-41E1-A2DA-545C09F7BA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Arial"/>
              </a:rPr>
              <a:t>otcl and C++: The Duality</a:t>
            </a: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4419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++ for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packet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cl for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ic or triggered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525680" y="2058840"/>
            <a:ext cx="2587680" cy="2130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677960" y="2516040"/>
            <a:ext cx="378000" cy="149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06560" y="2211480"/>
            <a:ext cx="378000" cy="14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11480" y="2516040"/>
            <a:ext cx="377640" cy="149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1917720" y="2374920"/>
            <a:ext cx="13968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22640" y="2374920"/>
            <a:ext cx="2156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668680" y="3049560"/>
            <a:ext cx="377640" cy="149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440080" y="3354480"/>
            <a:ext cx="377640" cy="14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049560" y="3354480"/>
            <a:ext cx="378000" cy="14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354480" y="3659040"/>
            <a:ext cx="377640" cy="149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744640" y="3659040"/>
            <a:ext cx="378000" cy="149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2603520" y="3213000"/>
            <a:ext cx="21600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984400" y="3213000"/>
            <a:ext cx="29232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2984400" y="3517920"/>
            <a:ext cx="21600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65640" y="3517920"/>
            <a:ext cx="2156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344840" y="2058840"/>
            <a:ext cx="2587680" cy="2130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9080" y="3887640"/>
            <a:ext cx="377640" cy="149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097680" y="3583080"/>
            <a:ext cx="377640" cy="14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402240" y="3887640"/>
            <a:ext cx="378000" cy="149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6108840" y="3746520"/>
            <a:ext cx="13968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413400" y="3746520"/>
            <a:ext cx="21600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726080" y="2287440"/>
            <a:ext cx="377640" cy="149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497480" y="2592360"/>
            <a:ext cx="377640" cy="149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06960" y="2592360"/>
            <a:ext cx="378000" cy="149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411880" y="2897280"/>
            <a:ext cx="377640" cy="14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02040" y="2897280"/>
            <a:ext cx="378000" cy="14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660920" y="2451240"/>
            <a:ext cx="21600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041800" y="2451240"/>
            <a:ext cx="29232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041800" y="2755800"/>
            <a:ext cx="21600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423040" y="2755800"/>
            <a:ext cx="2156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231600" y="2022480"/>
            <a:ext cx="732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582560" y="3774960"/>
            <a:ext cx="643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355920" y="2405160"/>
            <a:ext cx="1676520" cy="950760"/>
          </a:xfrm>
          <a:custGeom>
            <a:avLst/>
            <a:gdLst/>
            <a:ahLst/>
            <a:rect l="l" t="t" r="r" b="b"/>
            <a:pathLst>
              <a:path w="1056" h="599">
                <a:moveTo>
                  <a:pt x="0" y="598"/>
                </a:moveTo>
                <a:lnTo>
                  <a:pt x="41" y="503"/>
                </a:lnTo>
                <a:lnTo>
                  <a:pt x="76" y="412"/>
                </a:lnTo>
                <a:lnTo>
                  <a:pt x="122" y="328"/>
                </a:lnTo>
                <a:lnTo>
                  <a:pt x="163" y="246"/>
                </a:lnTo>
                <a:lnTo>
                  <a:pt x="213" y="172"/>
                </a:lnTo>
                <a:lnTo>
                  <a:pt x="264" y="108"/>
                </a:lnTo>
                <a:lnTo>
                  <a:pt x="289" y="81"/>
                </a:lnTo>
                <a:lnTo>
                  <a:pt x="320" y="57"/>
                </a:lnTo>
                <a:lnTo>
                  <a:pt x="350" y="37"/>
                </a:lnTo>
                <a:lnTo>
                  <a:pt x="381" y="20"/>
                </a:lnTo>
                <a:lnTo>
                  <a:pt x="416" y="10"/>
                </a:lnTo>
                <a:lnTo>
                  <a:pt x="457" y="0"/>
                </a:lnTo>
                <a:lnTo>
                  <a:pt x="497" y="0"/>
                </a:lnTo>
                <a:lnTo>
                  <a:pt x="543" y="0"/>
                </a:lnTo>
                <a:lnTo>
                  <a:pt x="644" y="13"/>
                </a:lnTo>
                <a:lnTo>
                  <a:pt x="741" y="33"/>
                </a:lnTo>
                <a:lnTo>
                  <a:pt x="842" y="60"/>
                </a:lnTo>
                <a:lnTo>
                  <a:pt x="928" y="84"/>
                </a:lnTo>
                <a:lnTo>
                  <a:pt x="999" y="104"/>
                </a:lnTo>
                <a:lnTo>
                  <a:pt x="1030" y="115"/>
                </a:lnTo>
                <a:lnTo>
                  <a:pt x="1055" y="1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49560" y="3124080"/>
            <a:ext cx="2019240" cy="952560"/>
          </a:xfrm>
          <a:custGeom>
            <a:avLst/>
            <a:gdLst/>
            <a:ahLst/>
            <a:rect l="l" t="t" r="r" b="b"/>
            <a:pathLst>
              <a:path w="1272" h="600">
                <a:moveTo>
                  <a:pt x="0" y="431"/>
                </a:moveTo>
                <a:lnTo>
                  <a:pt x="179" y="473"/>
                </a:lnTo>
                <a:lnTo>
                  <a:pt x="352" y="511"/>
                </a:lnTo>
                <a:lnTo>
                  <a:pt x="520" y="544"/>
                </a:lnTo>
                <a:lnTo>
                  <a:pt x="678" y="574"/>
                </a:lnTo>
                <a:lnTo>
                  <a:pt x="819" y="590"/>
                </a:lnTo>
                <a:lnTo>
                  <a:pt x="951" y="599"/>
                </a:lnTo>
                <a:lnTo>
                  <a:pt x="1008" y="599"/>
                </a:lnTo>
                <a:lnTo>
                  <a:pt x="1061" y="595"/>
                </a:lnTo>
                <a:lnTo>
                  <a:pt x="1108" y="590"/>
                </a:lnTo>
                <a:lnTo>
                  <a:pt x="1150" y="578"/>
                </a:lnTo>
                <a:lnTo>
                  <a:pt x="1187" y="561"/>
                </a:lnTo>
                <a:lnTo>
                  <a:pt x="1213" y="536"/>
                </a:lnTo>
                <a:lnTo>
                  <a:pt x="1234" y="507"/>
                </a:lnTo>
                <a:lnTo>
                  <a:pt x="1250" y="469"/>
                </a:lnTo>
                <a:lnTo>
                  <a:pt x="1271" y="389"/>
                </a:lnTo>
                <a:lnTo>
                  <a:pt x="1271" y="297"/>
                </a:lnTo>
                <a:lnTo>
                  <a:pt x="1266" y="205"/>
                </a:lnTo>
                <a:lnTo>
                  <a:pt x="1255" y="121"/>
                </a:lnTo>
                <a:lnTo>
                  <a:pt x="1250" y="84"/>
                </a:lnTo>
                <a:lnTo>
                  <a:pt x="1245" y="50"/>
                </a:lnTo>
                <a:lnTo>
                  <a:pt x="1245" y="21"/>
                </a:lnTo>
                <a:lnTo>
                  <a:pt x="124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656160" y="3124080"/>
            <a:ext cx="2022480" cy="952560"/>
          </a:xfrm>
          <a:custGeom>
            <a:avLst/>
            <a:gdLst/>
            <a:ahLst/>
            <a:rect l="l" t="t" r="r" b="b"/>
            <a:pathLst>
              <a:path w="1274" h="600">
                <a:moveTo>
                  <a:pt x="0" y="431"/>
                </a:moveTo>
                <a:lnTo>
                  <a:pt x="168" y="473"/>
                </a:lnTo>
                <a:lnTo>
                  <a:pt x="336" y="511"/>
                </a:lnTo>
                <a:lnTo>
                  <a:pt x="492" y="544"/>
                </a:lnTo>
                <a:lnTo>
                  <a:pt x="643" y="574"/>
                </a:lnTo>
                <a:lnTo>
                  <a:pt x="782" y="590"/>
                </a:lnTo>
                <a:lnTo>
                  <a:pt x="909" y="599"/>
                </a:lnTo>
                <a:lnTo>
                  <a:pt x="1019" y="595"/>
                </a:lnTo>
                <a:lnTo>
                  <a:pt x="1065" y="590"/>
                </a:lnTo>
                <a:lnTo>
                  <a:pt x="1106" y="578"/>
                </a:lnTo>
                <a:lnTo>
                  <a:pt x="1175" y="540"/>
                </a:lnTo>
                <a:lnTo>
                  <a:pt x="1221" y="490"/>
                </a:lnTo>
                <a:lnTo>
                  <a:pt x="1250" y="427"/>
                </a:lnTo>
                <a:lnTo>
                  <a:pt x="1268" y="356"/>
                </a:lnTo>
                <a:lnTo>
                  <a:pt x="1273" y="272"/>
                </a:lnTo>
                <a:lnTo>
                  <a:pt x="1268" y="184"/>
                </a:lnTo>
                <a:lnTo>
                  <a:pt x="125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511360" y="2319480"/>
            <a:ext cx="1911240" cy="1036440"/>
          </a:xfrm>
          <a:custGeom>
            <a:avLst/>
            <a:gdLst/>
            <a:ahLst/>
            <a:rect l="l" t="t" r="r" b="b"/>
            <a:pathLst>
              <a:path w="1204" h="653">
                <a:moveTo>
                  <a:pt x="0" y="652"/>
                </a:moveTo>
                <a:lnTo>
                  <a:pt x="27" y="551"/>
                </a:lnTo>
                <a:lnTo>
                  <a:pt x="53" y="449"/>
                </a:lnTo>
                <a:lnTo>
                  <a:pt x="85" y="354"/>
                </a:lnTo>
                <a:lnTo>
                  <a:pt x="120" y="267"/>
                </a:lnTo>
                <a:lnTo>
                  <a:pt x="160" y="189"/>
                </a:lnTo>
                <a:lnTo>
                  <a:pt x="209" y="121"/>
                </a:lnTo>
                <a:lnTo>
                  <a:pt x="241" y="91"/>
                </a:lnTo>
                <a:lnTo>
                  <a:pt x="272" y="67"/>
                </a:lnTo>
                <a:lnTo>
                  <a:pt x="303" y="43"/>
                </a:lnTo>
                <a:lnTo>
                  <a:pt x="339" y="27"/>
                </a:lnTo>
                <a:lnTo>
                  <a:pt x="379" y="13"/>
                </a:lnTo>
                <a:lnTo>
                  <a:pt x="419" y="6"/>
                </a:lnTo>
                <a:lnTo>
                  <a:pt x="463" y="0"/>
                </a:lnTo>
                <a:lnTo>
                  <a:pt x="512" y="0"/>
                </a:lnTo>
                <a:lnTo>
                  <a:pt x="561" y="3"/>
                </a:lnTo>
                <a:lnTo>
                  <a:pt x="610" y="6"/>
                </a:lnTo>
                <a:lnTo>
                  <a:pt x="722" y="27"/>
                </a:lnTo>
                <a:lnTo>
                  <a:pt x="838" y="57"/>
                </a:lnTo>
                <a:lnTo>
                  <a:pt x="953" y="91"/>
                </a:lnTo>
                <a:lnTo>
                  <a:pt x="1078" y="131"/>
                </a:lnTo>
                <a:lnTo>
                  <a:pt x="1203" y="17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968560" y="2082960"/>
            <a:ext cx="1682640" cy="968040"/>
          </a:xfrm>
          <a:custGeom>
            <a:avLst/>
            <a:gdLst/>
            <a:ahLst/>
            <a:rect l="l" t="t" r="r" b="b"/>
            <a:pathLst>
              <a:path w="1060" h="610">
                <a:moveTo>
                  <a:pt x="0" y="609"/>
                </a:moveTo>
                <a:lnTo>
                  <a:pt x="33" y="517"/>
                </a:lnTo>
                <a:lnTo>
                  <a:pt x="65" y="425"/>
                </a:lnTo>
                <a:lnTo>
                  <a:pt x="98" y="339"/>
                </a:lnTo>
                <a:lnTo>
                  <a:pt x="136" y="256"/>
                </a:lnTo>
                <a:lnTo>
                  <a:pt x="178" y="185"/>
                </a:lnTo>
                <a:lnTo>
                  <a:pt x="225" y="120"/>
                </a:lnTo>
                <a:lnTo>
                  <a:pt x="248" y="93"/>
                </a:lnTo>
                <a:lnTo>
                  <a:pt x="276" y="68"/>
                </a:lnTo>
                <a:lnTo>
                  <a:pt x="304" y="50"/>
                </a:lnTo>
                <a:lnTo>
                  <a:pt x="337" y="31"/>
                </a:lnTo>
                <a:lnTo>
                  <a:pt x="370" y="19"/>
                </a:lnTo>
                <a:lnTo>
                  <a:pt x="408" y="10"/>
                </a:lnTo>
                <a:lnTo>
                  <a:pt x="445" y="4"/>
                </a:lnTo>
                <a:lnTo>
                  <a:pt x="487" y="0"/>
                </a:lnTo>
                <a:lnTo>
                  <a:pt x="572" y="4"/>
                </a:lnTo>
                <a:lnTo>
                  <a:pt x="665" y="16"/>
                </a:lnTo>
                <a:lnTo>
                  <a:pt x="759" y="37"/>
                </a:lnTo>
                <a:lnTo>
                  <a:pt x="857" y="65"/>
                </a:lnTo>
                <a:lnTo>
                  <a:pt x="956" y="96"/>
                </a:lnTo>
                <a:lnTo>
                  <a:pt x="1059" y="13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6338-C5EE-460D-A1D0-07DCFD6AF8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Adding New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454040" y="41911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97480" y="5070600"/>
            <a:ext cx="732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96760" y="3013200"/>
            <a:ext cx="643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819520" y="4572000"/>
            <a:ext cx="3581280" cy="1371600"/>
            <a:chOff x="2819520" y="4572000"/>
            <a:chExt cx="3581280" cy="1371600"/>
          </a:xfrm>
        </p:grpSpPr>
        <p:sp>
          <p:nvSpPr>
            <p:cNvPr id="456" name=""/>
            <p:cNvSpPr/>
            <p:nvPr/>
          </p:nvSpPr>
          <p:spPr>
            <a:xfrm>
              <a:off x="2819520" y="4648320"/>
              <a:ext cx="3581280" cy="1295280"/>
            </a:xfrm>
            <a:prstGeom prst="rect">
              <a:avLst/>
            </a:prstGeom>
            <a:solidFill>
              <a:srgbClr val="33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w Cla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01960" y="5029200"/>
              <a:ext cx="349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045960" y="4572000"/>
              <a:ext cx="1321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ariab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99520" y="4572000"/>
              <a:ext cx="155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rocedu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648320" y="4654440"/>
              <a:ext cx="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2819520" y="2362320"/>
            <a:ext cx="3581280" cy="1295280"/>
            <a:chOff x="2819520" y="2362320"/>
            <a:chExt cx="3581280" cy="1295280"/>
          </a:xfrm>
        </p:grpSpPr>
        <p:sp>
          <p:nvSpPr>
            <p:cNvPr id="462" name=""/>
            <p:cNvSpPr/>
            <p:nvPr/>
          </p:nvSpPr>
          <p:spPr>
            <a:xfrm>
              <a:off x="2819520" y="2362320"/>
              <a:ext cx="3581280" cy="12952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917800" y="2414520"/>
              <a:ext cx="33847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w Cla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901960" y="2743200"/>
              <a:ext cx="349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648320" y="2368440"/>
              <a:ext cx="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5638680" y="2746440"/>
            <a:ext cx="1468440" cy="1974960"/>
            <a:chOff x="5638680" y="2746440"/>
            <a:chExt cx="1468440" cy="1974960"/>
          </a:xfrm>
        </p:grpSpPr>
        <p:sp>
          <p:nvSpPr>
            <p:cNvPr id="467" name=""/>
            <p:cNvSpPr/>
            <p:nvPr/>
          </p:nvSpPr>
          <p:spPr>
            <a:xfrm flipV="1">
              <a:off x="5638680" y="2746440"/>
              <a:ext cx="0" cy="197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865840" y="3809880"/>
              <a:ext cx="124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mmand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1980360" y="2746440"/>
            <a:ext cx="1600920" cy="1974960"/>
            <a:chOff x="1980360" y="2746440"/>
            <a:chExt cx="1600920" cy="1974960"/>
          </a:xfrm>
        </p:grpSpPr>
        <p:sp>
          <p:nvSpPr>
            <p:cNvPr id="470" name=""/>
            <p:cNvSpPr/>
            <p:nvPr/>
          </p:nvSpPr>
          <p:spPr>
            <a:xfrm flipV="1">
              <a:off x="3581280" y="2746440"/>
              <a:ext cx="0" cy="197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980360" y="3733920"/>
              <a:ext cx="744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d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3580200" y="3660840"/>
            <a:ext cx="1139040" cy="907920"/>
            <a:chOff x="3580200" y="3660840"/>
            <a:chExt cx="1139040" cy="907920"/>
          </a:xfrm>
        </p:grpSpPr>
        <p:sp>
          <p:nvSpPr>
            <p:cNvPr id="473" name=""/>
            <p:cNvSpPr/>
            <p:nvPr/>
          </p:nvSpPr>
          <p:spPr>
            <a:xfrm flipV="1">
              <a:off x="4572000" y="3660840"/>
              <a:ext cx="0" cy="90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580200" y="3733920"/>
              <a:ext cx="113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clClass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4799520" y="228600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5960" y="2286000"/>
            <a:ext cx="1321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4F4A-30E0-47E8-AB1A-65E96F4A38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Arial"/>
              </a:rPr>
              <a:t>TclClass</a:t>
            </a: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687240" y="1752480"/>
            <a:ext cx="4646880" cy="4037040"/>
            <a:chOff x="687240" y="1752480"/>
            <a:chExt cx="4646880" cy="4037040"/>
          </a:xfrm>
        </p:grpSpPr>
        <p:grpSp>
          <p:nvGrpSpPr>
            <p:cNvPr id="479" name=""/>
            <p:cNvGrpSpPr/>
            <p:nvPr/>
          </p:nvGrpSpPr>
          <p:grpSpPr>
            <a:xfrm>
              <a:off x="3811680" y="2440080"/>
              <a:ext cx="1520640" cy="3349440"/>
              <a:chOff x="3811680" y="2440080"/>
              <a:chExt cx="1520640" cy="3349440"/>
            </a:xfrm>
          </p:grpSpPr>
          <p:sp>
            <p:nvSpPr>
              <p:cNvPr id="480" name=""/>
              <p:cNvSpPr/>
              <p:nvPr/>
            </p:nvSpPr>
            <p:spPr>
              <a:xfrm>
                <a:off x="3811680" y="2440080"/>
                <a:ext cx="1368360" cy="530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clObjec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811680" y="4268880"/>
                <a:ext cx="1368360" cy="530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g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811680" y="5259240"/>
                <a:ext cx="1520640" cy="530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gent/FB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687240" y="2440080"/>
              <a:ext cx="1368720" cy="3349440"/>
              <a:chOff x="687240" y="2440080"/>
              <a:chExt cx="1368720" cy="3349440"/>
            </a:xfrm>
          </p:grpSpPr>
          <p:sp>
            <p:nvSpPr>
              <p:cNvPr id="484" name=""/>
              <p:cNvSpPr/>
              <p:nvPr/>
            </p:nvSpPr>
            <p:spPr>
              <a:xfrm>
                <a:off x="687240" y="2440080"/>
                <a:ext cx="1368720" cy="530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clObjec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87240" y="4268880"/>
                <a:ext cx="1368720" cy="530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g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87240" y="5259240"/>
                <a:ext cx="1368720" cy="530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BIAg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87240" y="3354480"/>
                <a:ext cx="1368720" cy="530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sObjec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8" name=""/>
            <p:cNvSpPr/>
            <p:nvPr/>
          </p:nvSpPr>
          <p:spPr>
            <a:xfrm>
              <a:off x="2298600" y="2743200"/>
              <a:ext cx="1359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298600" y="3657600"/>
              <a:ext cx="74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298600" y="4495680"/>
              <a:ext cx="1359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222640" y="5486400"/>
              <a:ext cx="1358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107160" y="339408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71600" y="2984400"/>
              <a:ext cx="0" cy="368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71600" y="3898800"/>
              <a:ext cx="0" cy="368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71600" y="4813200"/>
              <a:ext cx="0" cy="444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495680" y="2984400"/>
              <a:ext cx="0" cy="1282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495680" y="4813200"/>
              <a:ext cx="0" cy="444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1050840" y="1752480"/>
              <a:ext cx="4283280" cy="499680"/>
              <a:chOff x="1050840" y="1752480"/>
              <a:chExt cx="4283280" cy="499680"/>
            </a:xfrm>
          </p:grpSpPr>
          <p:sp>
            <p:nvSpPr>
              <p:cNvPr id="499" name=""/>
              <p:cNvSpPr/>
              <p:nvPr/>
            </p:nvSpPr>
            <p:spPr>
              <a:xfrm>
                <a:off x="4174560" y="1793880"/>
                <a:ext cx="811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T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050840" y="1793880"/>
                <a:ext cx="42832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+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283120" y="1752480"/>
                <a:ext cx="1356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mirror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2" name=""/>
          <p:cNvSpPr/>
          <p:nvPr/>
        </p:nvSpPr>
        <p:spPr>
          <a:xfrm>
            <a:off x="2211480" y="1754280"/>
            <a:ext cx="6489720" cy="30193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81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306520" y="1803240"/>
            <a:ext cx="6299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class FBIClass : public TclClass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BIClass() : TclClass(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nt/FB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) 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Object* create(int, const char*const*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(new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BIAg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class_fb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00AF-2061-425A-AB92-CBCEF05104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Arial"/>
              </a:rPr>
              <a:t>TclObject: bind()</a:t>
            </a: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BIAgent::FBIAgent(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(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, age_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t/FBI se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4755-AD6E-461E-87DF-E2819735D9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Arial"/>
              </a:rPr>
              <a:t>TclObject: command()</a:t>
            </a: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FBIAgent::command(int argc, const char*const* argv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argc == 3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strcomp(argv[1],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) == 0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_ += atoi(argv[2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(TCL_O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(Agent::command(argc, argv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mulder [new Agent/FB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mul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437E-EFF8-48D9-B99D-FBBA2780AA7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Arial"/>
              </a:rPr>
              <a:t>Tracing</a:t>
            </a: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all packets on all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ns trace-all [open out.w w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event&gt; &lt;time&gt; &lt;from&gt; &lt;to&gt; &lt;pkt&gt; &lt;size&gt; - - &lt;flowid&gt; &lt;src&gt; &lt;dst&gt; &lt;seqno&gt; &lt;aseqno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all packets on all links in nam-1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ns namtrace-all [open out.w w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1CAF-A762-49C3-B3DA-D7AC07C807D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Arial"/>
              </a:rPr>
              <a:t>What is ns?</a:t>
            </a: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s i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-oriented tcl (otcl) + extensions for building network sim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cl: object oriented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cl: C++ and otcl lin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4267080"/>
            <a:ext cx="1067040" cy="685800"/>
          </a:xfrm>
          <a:prstGeom prst="rect">
            <a:avLst/>
          </a:prstGeom>
          <a:solidFill>
            <a:srgbClr val="33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4191120"/>
            <a:ext cx="1066680" cy="685800"/>
          </a:xfrm>
          <a:prstGeom prst="rect">
            <a:avLst/>
          </a:prstGeom>
          <a:solidFill>
            <a:srgbClr val="33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5715000"/>
            <a:ext cx="1066680" cy="685800"/>
          </a:xfrm>
          <a:prstGeom prst="rect">
            <a:avLst/>
          </a:prstGeom>
          <a:solidFill>
            <a:srgbClr val="33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4419720"/>
            <a:ext cx="1447920" cy="304560"/>
          </a:xfrm>
          <a:prstGeom prst="rightArrow">
            <a:avLst>
              <a:gd name="adj1" fmla="val 50000"/>
              <a:gd name="adj2" fmla="val 119073"/>
            </a:avLst>
          </a:prstGeom>
          <a:solidFill>
            <a:srgbClr val="33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2670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88760" y="4114800"/>
            <a:ext cx="1050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59840" y="4952880"/>
            <a:ext cx="712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cl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4191120"/>
            <a:ext cx="1219320" cy="685800"/>
          </a:xfrm>
          <a:prstGeom prst="rect">
            <a:avLst/>
          </a:prstGeom>
          <a:solidFill>
            <a:srgbClr val="33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++ objec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4952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5866920" y="4876920"/>
            <a:ext cx="68580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086E-21DB-4B6D-94D2-5F1DF67623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Arial"/>
              </a:rPr>
              <a:t>nam-1</a:t>
            </a: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657600" y="380880"/>
            <a:ext cx="5189400" cy="627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CD1C-BA0B-4246-8ED7-29A2B4AAB7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Arial"/>
              </a:rPr>
              <a:t>ns on Athena Sun workstations</a:t>
            </a: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the course lock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6.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“ns” or “nam” at your prom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mit/6.899/software/ns-allinone-2.1b6/b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Linux platforms only (not on Sun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Sun, older version of ns exists in sipbn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more information, see course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A6B9-5B65-4221-A562-1ED20D3D74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Arial"/>
              </a:rPr>
              <a:t>Tutorial Roadmap</a:t>
            </a: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in Tcl and O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simulations in 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new primitives to 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C5DB-D3B9-416C-A51D-4DAB10412F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Arial"/>
              </a:rPr>
              <a:t>Tcl and Otcl Language Basics</a:t>
            </a: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A699-10D0-45FD-ACD1-DC296CC8FD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Arial"/>
              </a:rPr>
              <a:t>Basic tcl</a:t>
            </a: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81024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hena% 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set a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set b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set c [expr $a + $b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set colors {red green blue purple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1523880"/>
            <a:ext cx="3809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% proc occur {value li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count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each el $lis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$el == $valu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 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$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% set nblues [occur blue $colo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% puts “I have $nblues blu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have 1 b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0EC8-4397-42FC-961C-C42C1FA98C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Arial"/>
              </a:rPr>
              <a:t>Basic otcl</a:t>
            </a: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Class Ba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% set abagel [new Bage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o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$abagel info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Bagel info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o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Bagel instproc init {args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self instvar toasted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oasted_ 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 $self next $ar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Bagel instproc toast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self instvar toasted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 toasted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{$toasted&gt;1} the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"something's burning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$abagel to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$abagel to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hing's burni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008A-55C9-4F52-B620-865CA7D672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7:31:36Z</dcterms:created>
  <dc:creator>Polly Huang</dc:creator>
  <dc:description/>
  <dc:language>en-US</dc:language>
  <cp:lastModifiedBy>TNS</cp:lastModifiedBy>
  <cp:lastPrinted>1999-09-17T16:33:35Z</cp:lastPrinted>
  <dcterms:modified xsi:type="dcterms:W3CDTF">2000-09-15T16:31:24Z</dcterms:modified>
  <cp:revision>647</cp:revision>
  <dc:subject/>
  <dc:title>Beginning ns-2</dc:title>
</cp:coreProperties>
</file>